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6EA67-A6A7-4119-8781-A78CA46A1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9"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0"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FA28E-1A5E-43E1-8387-7D6DDF124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5"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DD79C-8D48-4497-A195-FDC8F3B1B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7"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8"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9"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0"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1"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2"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07E58-8D19-4641-AE4F-9595C9723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B676E4-D830-4FA6-9ED1-A98530C132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4"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92B90-38BE-4806-AA01-72E92B99B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6"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51961-882F-4E54-BED1-AF3DBDDBC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9"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A4D91-3B9F-429C-84DB-5EEF8DDD1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92F83-1E2D-4714-B841-FA1CB6070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6C59E-A06B-49AC-91F2-D58732C3E2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3"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4"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5"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F65EB-CF31-446F-83DD-55C7F7B4A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3DC59-7BDA-41AD-8DD5-9622613E9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9"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174F7-4966-4F6F-922C-E2D806066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1"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3"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B619E-8331-4FD8-89E7-3E8D01C27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5"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6"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809EA-7D08-4465-A268-8459F485A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8"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0"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1"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379EFD-BC51-4CA4-B58B-EA22434CF7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3"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4"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5"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6"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7"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8"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2C36B2-B9C5-4586-BDEC-3C2B92E7D4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E9B81E-EF19-49C1-85F3-8B7203E62C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2"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902CBA-B65F-4B41-8C7B-0852572476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4"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FA47BF-CC46-47C4-A73D-CC45893CFD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6"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7"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DEE973-4BD7-4964-A9E8-47B18034EF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B92148-BC07-4AE6-BA05-7BD6D60786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4D13E-0BC0-488C-BB6B-9925E583D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34F530-2E84-4058-AFF7-5058064C7A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1"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2"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3"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0107E0-3B20-4F65-899A-39D4650C43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5"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7"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4301E1-51E7-4F71-AFCE-42C0A7F670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9"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0"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1"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C1B382-0CFE-49AD-A859-02C749C187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3"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4"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8B6C41-68F8-4F73-81BB-977950AC13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6"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8"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9"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4B1E7F-4E87-4F82-B25F-8C117F7D63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31"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2"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3"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4"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5"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6"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20F7CE-2CBE-445F-A7DB-D43B45EED0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9E8D57-4C7A-41A1-8AB1-C970DCB506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7"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6880EB-64CA-4B46-9D18-54B2DFF33E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9"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44CD1C-23B0-4F96-940C-71B0DB6F6B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A1E12-B9EE-4221-85CE-02561573C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2"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159AFD-E758-4461-A6D9-F0ED15ADA5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B526EC-1532-4655-8D5E-C35E4A0B11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9387E8-A194-436E-A775-3ACB1E5CC0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6"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7"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8"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DD836B-227B-4DF9-9309-E8350A1217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0"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1"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2"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54AADE-2E9C-48BB-8127-494E15AD00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4"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5"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6"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038DF6-E4FB-4E5D-9BDB-3B993928C7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8"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9"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35C18C-BD8C-4422-BD31-63605B08D9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1"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3"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4"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34C25F-C868-4830-B769-AF6D21B5D8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6"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7"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8"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9"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0"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1"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B52AE3-17B5-408C-BE4A-7163038AAF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E63A09-919E-4AEF-935C-B2C2B8AE20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4DCCE-6751-4DBE-A46E-EF0181A27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3"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4EA2BB-6420-4B81-8BC6-B3F7DC88D2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5"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65C7F9-1419-4C75-BF93-4A029C6E41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3535D0-D8DB-42D0-86AD-BC1B6D493C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D9B6E0-CE50-4C8F-BE5A-381F51EDD5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84069B-009E-4DF3-94C4-C192658D0F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7D08C9-0E07-4397-AC2F-CB0B012B25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6"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8"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7AFD41-87CA-4013-8240-DE5520C513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0"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1"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2"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8A76DF-AD31-4E57-BDE9-A90D9F8495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4"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5"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E92097-EE3F-48AB-A6C3-1D36E06E1E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0"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F5353F-D058-44CF-8807-4EF6E04C5F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C8689-789D-4161-90A6-49D5443A1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22"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3"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4"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5"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6"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7"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5301A3-45CE-4FC5-9AC2-48A4B3C7FD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5"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7"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9"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0"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4"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5"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6"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0"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4"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A71FF-015E-4FCC-B25D-18E01B790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6"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7"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9"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0"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1"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2"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64"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5"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6"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7"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8"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9"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D7F07-0C17-4677-90F2-D51612FDF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A1B15-F90E-4672-A0BB-6385626E4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3" name="PlaceHolder 2"/>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4" name="PlaceHolder 3"/>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68366A-A44F-4311-83F3-96BC0F6DFF3D}"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6" name="PlaceHolder 5"/>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49" name="PlaceHolder 2"/>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CD7FA1-CF2B-4F14-B636-13F920765278}"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0" name="Rectangle à coins arrondis 10"/>
          <p:cNvGrpSpPr/>
          <p:nvPr/>
        </p:nvGrpSpPr>
        <p:grpSpPr>
          <a:xfrm>
            <a:off x="55440" y="60480"/>
            <a:ext cx="9033120" cy="6711840"/>
            <a:chOff x="55440" y="60480"/>
            <a:chExt cx="9033120" cy="6711840"/>
          </a:xfrm>
        </p:grpSpPr>
        <p:pic>
          <p:nvPicPr>
            <p:cNvPr id="91" name="Rectangle à coins arrondis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97" name="PlaceHolder 2"/>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CB0BF9-F82E-478B-9A3C-23D5BA6EFBE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42" name="PlaceHolder 2"/>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D3E335-D750-48A3-B151-4A88B5496848}"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88" name="PlaceHolder 2"/>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FBC6E0-C8AC-46F2-90AC-D82605041303}"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0"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231" name="PlaceHolder 2"/>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232"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233" name="PlaceHolder 4"/>
          <p:cNvSpPr>
            <a:spLocks noGrp="1"/>
          </p:cNvSpPr>
          <p:nvPr>
            <p:ph type="ftr" idx="17"/>
          </p:nvPr>
        </p:nvSpPr>
        <p:spPr>
          <a:xfrm>
            <a:off x="304920" y="6409800"/>
            <a:ext cx="3581280" cy="3668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1"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72"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DDF7F0-CF24-48A9-A6E9-B73FB00E999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3"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grpSp>
        <p:nvGrpSpPr>
          <p:cNvPr id="274" name="Group 7"/>
          <p:cNvGrpSpPr/>
          <p:nvPr/>
        </p:nvGrpSpPr>
        <p:grpSpPr>
          <a:xfrm>
            <a:off x="2209680" y="3213000"/>
            <a:ext cx="4730760" cy="2832120"/>
            <a:chOff x="2209680" y="3213000"/>
            <a:chExt cx="4730760" cy="2832120"/>
          </a:xfrm>
        </p:grpSpPr>
        <p:pic>
          <p:nvPicPr>
            <p:cNvPr id="275"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276"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96464"/>
                </a:solidFill>
                <a:latin typeface="Franklin Gothic Book"/>
              </a:rPr>
              <a:t>II. Architectures: towards dependable open software development</a:t>
            </a:r>
            <a:endParaRPr b="0" lang="en-US" sz="2400" spc="-1" strike="noStrike">
              <a:solidFill>
                <a:srgbClr val="696464"/>
              </a:solidFill>
              <a:latin typeface="Franklin Gothic Book"/>
            </a:endParaRPr>
          </a:p>
        </p:txBody>
      </p:sp>
      <p:sp>
        <p:nvSpPr>
          <p:cNvPr id="322" name=""/>
          <p:cNvSpPr txBox="1"/>
          <p:nvPr/>
        </p:nvSpPr>
        <p:spPr>
          <a:xfrm>
            <a:off x="914400" y="1188720"/>
            <a:ext cx="7772400" cy="4830840"/>
          </a:xfrm>
          <a:prstGeom prst="rect">
            <a:avLst/>
          </a:prstGeom>
          <a:noFill/>
          <a:ln w="0">
            <a:noFill/>
          </a:ln>
        </p:spPr>
        <p:txBody>
          <a:bodyPr anchor="t">
            <a:normAutofit fontScale="99000"/>
          </a:bodyPr>
          <a:p>
            <a:pPr marL="270000" indent="-2700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law enforcement approach isproposed to support dependable open software development, in a context characterized by increased distribution, autonomy, and ubiquity, with environments prone for failures or unforeseen situations leading to unpredictable behaviors. </a:t>
            </a:r>
            <a:endParaRPr b="0" lang="en-US" sz="1800" spc="-1" strike="noStrike">
              <a:solidFill>
                <a:srgbClr val="000000"/>
              </a:solidFill>
              <a:latin typeface="Perpetua"/>
            </a:endParaRPr>
          </a:p>
          <a:p>
            <a:pPr marL="270000" indent="-2700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ependability requirements (e.g. reliability, safety, security) are modeled as risks, which further guide the specification of laws. </a:t>
            </a:r>
            <a:endParaRPr b="0" lang="en-US" sz="1800" spc="-1" strike="noStrike">
              <a:solidFill>
                <a:srgbClr val="000000"/>
              </a:solidFill>
              <a:latin typeface="Perpetua"/>
            </a:endParaRPr>
          </a:p>
          <a:p>
            <a:pPr marL="270000" indent="-2700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mediator is proposed as a governance mechanism to enforce the laws. Its role is to intercept and interpret every message in the framework of the laws, therefore imposing execution rules and limits, ensuring that potentially erroneous behaviors are discovered and corrected before system services are affected, reducing the amount of time spent in hazardous situations, finally creating a boundary of tolerated component autonomy.</a:t>
            </a:r>
            <a:endParaRPr b="0" lang="en-US" sz="1800" spc="-1" strike="noStrike">
              <a:solidFill>
                <a:srgbClr val="000000"/>
              </a:solidFill>
              <a:latin typeface="Perpetua"/>
            </a:endParaRPr>
          </a:p>
          <a:p>
            <a:pPr marL="270000" indent="-2700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 Carvalho, R. Paes, R. Choren, P. Alencar, C. Pereira de Lucena, Increasing Software Infrastructure Dependability through a Law Enforcement Approach (Symposium on Normative Multi-Agent Systems, 2005)</a:t>
            </a:r>
            <a:endParaRPr b="0" lang="en-US" sz="1800" spc="-1" strike="noStrike">
              <a:solidFill>
                <a:srgbClr val="000000"/>
              </a:solidFill>
              <a:latin typeface="Perpetua"/>
            </a:endParaRPr>
          </a:p>
        </p:txBody>
      </p:sp>
      <p:sp>
        <p:nvSpPr>
          <p:cNvPr id="32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D08D22-4C97-41A6-9E3D-B3D2D36A7C0C}"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A diversity of approaches from various disciplines</a:t>
            </a:r>
            <a:endParaRPr b="0" lang="en-US" sz="2800" spc="-1" strike="noStrike">
              <a:solidFill>
                <a:srgbClr val="696464"/>
              </a:solidFill>
              <a:latin typeface="Franklin Gothic Book"/>
            </a:endParaRPr>
          </a:p>
        </p:txBody>
      </p:sp>
      <p:sp>
        <p:nvSpPr>
          <p:cNvPr id="327" name=""/>
          <p:cNvSpPr txBox="1"/>
          <p:nvPr/>
        </p:nvSpPr>
        <p:spPr>
          <a:xfrm>
            <a:off x="914400" y="1188720"/>
            <a:ext cx="7772400" cy="4830840"/>
          </a:xfrm>
          <a:prstGeom prst="rect">
            <a:avLst/>
          </a:prstGeom>
          <a:noFill/>
          <a:ln w="0">
            <a:noFill/>
          </a:ln>
        </p:spPr>
        <p:txBody>
          <a:bodyPr anchor="t">
            <a:normAutofit fontScale="97000"/>
          </a:bodyPr>
          <a:p>
            <a:pPr marL="264600" indent="-2646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creasingly demanding challenges, with specific effort to tackle the need in robustness to real-world conditions and real-time performance, e.g., applicability, scalability and reusability. </a:t>
            </a:r>
            <a:endParaRPr b="0" lang="en-US" sz="2000" spc="-1" strike="noStrike">
              <a:solidFill>
                <a:srgbClr val="000000"/>
              </a:solidFill>
              <a:latin typeface="Perpetua"/>
            </a:endParaRPr>
          </a:p>
          <a:p>
            <a:pPr marL="264600" indent="-2646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L. Chen and I. Khalil, Activity Recognition: Approaches, Practices and Trends (Activity Recognition in Pervasive Intelligent Environments, 2011)</a:t>
            </a:r>
            <a:endParaRPr b="0" lang="en-US" sz="2000" spc="-1" strike="noStrike">
              <a:solidFill>
                <a:srgbClr val="000000"/>
              </a:solidFill>
              <a:latin typeface="Perpetua"/>
            </a:endParaRPr>
          </a:p>
          <a:p>
            <a:pPr marL="264600" indent="-2646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requires experts from the data domain (eg signal analysis) and from the application domain (eg physiology, behavior recognition) as well as end-users (eg militaries), each of them bringing different knowledge and expectations as regards the meaning of data, its usage and the performance of recognition.</a:t>
            </a:r>
            <a:endParaRPr b="0" lang="en-US" sz="2000" spc="-1" strike="noStrike">
              <a:solidFill>
                <a:srgbClr val="000000"/>
              </a:solidFill>
              <a:latin typeface="Perpetua"/>
            </a:endParaRPr>
          </a:p>
          <a:p>
            <a:pPr marL="264600" indent="-2646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 Zaidenberg, B. Boulay and F. Bremond A Generic Framework for Video Understanding Applied to Group Behavior Recognition (AVSS 2012), pp 136-142</a:t>
            </a:r>
            <a:endParaRPr b="0" lang="en-US" sz="2000" spc="-1" strike="noStrike">
              <a:solidFill>
                <a:srgbClr val="000000"/>
              </a:solidFill>
              <a:latin typeface="Perpetua"/>
            </a:endParaRPr>
          </a:p>
        </p:txBody>
      </p:sp>
      <p:sp>
        <p:nvSpPr>
          <p:cNvPr id="32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C1E1FA-3835-4E3A-96A6-3BB27048CCA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A diversity of approaches from various disciplines</a:t>
            </a:r>
            <a:endParaRPr b="0" lang="en-US" sz="2800" spc="-1" strike="noStrike">
              <a:solidFill>
                <a:srgbClr val="696464"/>
              </a:solidFill>
              <a:latin typeface="Franklin Gothic Book"/>
            </a:endParaRPr>
          </a:p>
        </p:txBody>
      </p:sp>
      <p:sp>
        <p:nvSpPr>
          <p:cNvPr id="332" name=""/>
          <p:cNvSpPr txBox="1"/>
          <p:nvPr/>
        </p:nvSpPr>
        <p:spPr>
          <a:xfrm>
            <a:off x="914400" y="1188720"/>
            <a:ext cx="7772400" cy="4830840"/>
          </a:xfrm>
          <a:prstGeom prst="rect">
            <a:avLst/>
          </a:prstGeom>
          <a:noFill/>
          <a:ln w="0">
            <a:noFill/>
          </a:ln>
        </p:spPr>
        <p:txBody>
          <a:bodyPr anchor="t">
            <a:normAutofit fontScale="96000"/>
          </a:bodyPr>
          <a:p>
            <a:pPr marL="261720" indent="-2617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need to design hybrid systems mixing various frames of interpretation, from the biophysical laws of the human body to the social requirements of the human organization, and to combine various decision approaches, from analytical to naturalistic modeling.</a:t>
            </a:r>
            <a:endParaRPr b="0" lang="en-US" sz="2000" spc="-1" strike="noStrike">
              <a:solidFill>
                <a:srgbClr val="000000"/>
              </a:solidFill>
              <a:latin typeface="Perpetua"/>
            </a:endParaRPr>
          </a:p>
          <a:p>
            <a:pPr marL="261720" indent="-2617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Freedy, M. Cohen, G. Weltman, and E. Freedy, A new tactical group decision analysis system (TGDAS) combining analytical and naturalistic decision modeling (IEEE Conference on Collaborative Technologies and Systems, 2007)</a:t>
            </a:r>
            <a:endParaRPr b="0" lang="en-US" sz="2000" spc="-1" strike="noStrike">
              <a:solidFill>
                <a:srgbClr val="000000"/>
              </a:solidFill>
              <a:latin typeface="Perpetua"/>
            </a:endParaRPr>
          </a:p>
          <a:p>
            <a:pPr marL="261720" indent="-2617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signing becomes a very challenging task, with no single ideal solution, but rather a trade-off to be obtained between a collection of constraining and often conflicting requirements, depending on the application.</a:t>
            </a:r>
            <a:endParaRPr b="0" lang="en-US" sz="2000" spc="-1" strike="noStrike">
              <a:solidFill>
                <a:srgbClr val="000000"/>
              </a:solidFill>
              <a:latin typeface="Perpetua"/>
            </a:endParaRPr>
          </a:p>
          <a:p>
            <a:pPr marL="261720" indent="-2617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antelopoulos, N. Bourbakis, Prognosis, a wearable health monitoring system for people at risk: methodology and modeling (IEEE Tr. on Info. Tech. in Biomed., 2010)</a:t>
            </a:r>
            <a:endParaRPr b="0" lang="en-US" sz="2000" spc="-1" strike="noStrike">
              <a:solidFill>
                <a:srgbClr val="000000"/>
              </a:solidFill>
              <a:latin typeface="Perpetua"/>
            </a:endParaRPr>
          </a:p>
          <a:p>
            <a:pPr marL="261720" indent="-2617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33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A89AAD-F436-405D-BD3C-644042278C0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A diversity of approaches from various disciplines</a:t>
            </a:r>
            <a:endParaRPr b="0" lang="en-US" sz="2800" spc="-1" strike="noStrike">
              <a:solidFill>
                <a:srgbClr val="696464"/>
              </a:solidFill>
              <a:latin typeface="Franklin Gothic Book"/>
            </a:endParaRPr>
          </a:p>
        </p:txBody>
      </p:sp>
      <p:sp>
        <p:nvSpPr>
          <p:cNvPr id="337"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8"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9"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9DF1D8-86E5-437C-851A-F4FA57A008D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40" name="Picture 10" descr="Fig 10 Data Real Seq"/>
          <p:cNvPicPr/>
          <p:nvPr/>
        </p:nvPicPr>
        <p:blipFill>
          <a:blip r:embed="rId1"/>
          <a:stretch/>
        </p:blipFill>
        <p:spPr>
          <a:xfrm>
            <a:off x="1062000" y="1555920"/>
            <a:ext cx="6846840" cy="4616280"/>
          </a:xfrm>
          <a:prstGeom prst="rect">
            <a:avLst/>
          </a:prstGeom>
          <a:ln w="0">
            <a:noFill/>
          </a:ln>
        </p:spPr>
      </p:pic>
      <p:sp>
        <p:nvSpPr>
          <p:cNvPr id="341" name="Rectangle 13"/>
          <p:cNvSpPr/>
          <p:nvPr/>
        </p:nvSpPr>
        <p:spPr>
          <a:xfrm>
            <a:off x="1844640" y="760320"/>
            <a:ext cx="6064200" cy="30816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A diversity of approaches from various disciplines</a:t>
            </a:r>
            <a:endParaRPr b="0" lang="en-US" sz="2800" spc="-1" strike="noStrike">
              <a:solidFill>
                <a:srgbClr val="696464"/>
              </a:solidFill>
              <a:latin typeface="Franklin Gothic Book"/>
            </a:endParaRPr>
          </a:p>
        </p:txBody>
      </p:sp>
      <p:sp>
        <p:nvSpPr>
          <p:cNvPr id="343" name=""/>
          <p:cNvSpPr txBox="1"/>
          <p:nvPr/>
        </p:nvSpPr>
        <p:spPr>
          <a:xfrm>
            <a:off x="376200" y="1341360"/>
            <a:ext cx="3749760" cy="4572000"/>
          </a:xfrm>
          <a:prstGeom prst="rect">
            <a:avLst/>
          </a:prstGeom>
          <a:noFill/>
          <a:ln w="0">
            <a:noFill/>
          </a:ln>
        </p:spPr>
        <p:txBody>
          <a:bodyPr anchor="t">
            <a:normAutofit fontScale="93000"/>
          </a:bodyPr>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eterogeneity and diversity of information sources</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usion of several kinds of knowledge at each stage</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joint variation of the parameters is more crucial than a high degree of detail and accuracy in the values. </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uided by a priori knowledge about the dependance between parameters</a:t>
            </a:r>
            <a:endParaRPr b="0" lang="en-US" sz="18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uchêne F, Garbay C  et V. Rialle. </a:t>
            </a:r>
            <a:r>
              <a:rPr b="0" lang="en-GB" sz="1800" spc="-1" strike="noStrike">
                <a:solidFill>
                  <a:srgbClr val="000000"/>
                </a:solidFill>
                <a:latin typeface="Perpetua"/>
              </a:rPr>
              <a:t>An hybrid refinement methodology for multivariate simulation in home health telecare, Healthcom 2003, Santa Monica, 6-7 juin 2003</a:t>
            </a:r>
            <a:endParaRPr b="0" lang="en-US" sz="1800" spc="-1" strike="noStrike">
              <a:solidFill>
                <a:srgbClr val="000000"/>
              </a:solidFill>
              <a:latin typeface="Perpetua"/>
            </a:endParaRPr>
          </a:p>
        </p:txBody>
      </p:sp>
      <p:sp>
        <p:nvSpPr>
          <p:cNvPr id="344" name="Espace réservé de la date 13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45" name="Espace réservé du pied de page 13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4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8FD883-6D98-4BB0-A950-4726F74DE208}" type="slidenum">
              <a:rPr b="0" lang="en-GB"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7" name="Rectangle 3"/>
          <p:cNvSpPr/>
          <p:nvPr/>
        </p:nvSpPr>
        <p:spPr>
          <a:xfrm>
            <a:off x="50760" y="907920"/>
            <a:ext cx="4952880" cy="5335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8" name="Rectangle 4"/>
          <p:cNvSpPr/>
          <p:nvPr/>
        </p:nvSpPr>
        <p:spPr>
          <a:xfrm>
            <a:off x="34920" y="1341360"/>
            <a:ext cx="4537080" cy="631440"/>
          </a:xfrm>
          <a:prstGeom prst="rect">
            <a:avLst/>
          </a:prstGeom>
          <a:noFill/>
          <a:ln w="0">
            <a:noFill/>
          </a:ln>
        </p:spPr>
        <p:style>
          <a:lnRef idx="0"/>
          <a:fillRef idx="0"/>
          <a:effectRef idx="0"/>
          <a:fontRef idx="minor"/>
        </p:style>
        <p:txBody>
          <a:bodyPr lIns="90000" rIns="90000" tIns="46800" bIns="46800" anchor="t">
            <a:spAutoFit/>
          </a:bodyPr>
          <a:p>
            <a:pPr lvl="1" marL="531720" indent="-174600">
              <a:lnSpc>
                <a:spcPct val="100000"/>
              </a:lnSpc>
              <a:tabLst>
                <a:tab algn="l" pos="0"/>
                <a:tab algn="l" pos="936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lvl="1" marL="531720" indent="-174600">
              <a:lnSpc>
                <a:spcPct val="100000"/>
              </a:lnSpc>
              <a:spcBef>
                <a:spcPts val="400"/>
              </a:spcBef>
              <a:buClr>
                <a:srgbClr val="000000"/>
              </a:buClr>
              <a:buSzPct val="75000"/>
              <a:buFont typeface="Times New Roman"/>
              <a:buChar char="►"/>
              <a:tabLst>
                <a:tab algn="l" pos="936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p:txBody>
      </p:sp>
      <p:sp>
        <p:nvSpPr>
          <p:cNvPr id="349" name="Rectangle 134"/>
          <p:cNvSpPr/>
          <p:nvPr/>
        </p:nvSpPr>
        <p:spPr>
          <a:xfrm>
            <a:off x="34920" y="2565360"/>
            <a:ext cx="2216160" cy="33804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400"/>
              </a:spcBef>
              <a:buClr>
                <a:srgbClr val="96a9a9"/>
              </a:buClr>
              <a:buSzPct val="75000"/>
              <a:buFont typeface="Verdana"/>
              <a:buChar char="●"/>
              <a:tabLst>
                <a:tab algn="l" pos="93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0" name="Rectangle 135"/>
          <p:cNvSpPr/>
          <p:nvPr/>
        </p:nvSpPr>
        <p:spPr>
          <a:xfrm>
            <a:off x="34920" y="4797360"/>
            <a:ext cx="4537080" cy="33804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400"/>
              </a:spcBef>
              <a:buClr>
                <a:srgbClr val="96a9a9"/>
              </a:buClr>
              <a:buSzPct val="75000"/>
              <a:buFont typeface="Verdana"/>
              <a:buChar char="●"/>
              <a:tabLst>
                <a:tab algn="l" pos="93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51" name="Group 139" descr=""/>
          <p:cNvPicPr/>
          <p:nvPr/>
        </p:nvPicPr>
        <p:blipFill>
          <a:blip r:embed="rId1"/>
          <a:stretch/>
        </p:blipFill>
        <p:spPr>
          <a:xfrm>
            <a:off x="4260960" y="895320"/>
            <a:ext cx="4462200" cy="1695600"/>
          </a:xfrm>
          <a:prstGeom prst="rect">
            <a:avLst/>
          </a:prstGeom>
          <a:ln w="0">
            <a:noFill/>
          </a:ln>
        </p:spPr>
      </p:pic>
      <p:pic>
        <p:nvPicPr>
          <p:cNvPr id="352" name="Group 13" descr=""/>
          <p:cNvPicPr/>
          <p:nvPr/>
        </p:nvPicPr>
        <p:blipFill>
          <a:blip r:embed="rId2"/>
          <a:stretch/>
        </p:blipFill>
        <p:spPr>
          <a:xfrm>
            <a:off x="6497640" y="2060640"/>
            <a:ext cx="1042920" cy="480960"/>
          </a:xfrm>
          <a:prstGeom prst="rect">
            <a:avLst/>
          </a:prstGeom>
          <a:ln w="0">
            <a:noFill/>
          </a:ln>
        </p:spPr>
      </p:pic>
      <p:pic>
        <p:nvPicPr>
          <p:cNvPr id="353" name="Group 138" descr=""/>
          <p:cNvPicPr/>
          <p:nvPr/>
        </p:nvPicPr>
        <p:blipFill>
          <a:blip r:embed="rId3"/>
          <a:stretch/>
        </p:blipFill>
        <p:spPr>
          <a:xfrm>
            <a:off x="4327560" y="957240"/>
            <a:ext cx="2109600" cy="1573200"/>
          </a:xfrm>
          <a:prstGeom prst="rect">
            <a:avLst/>
          </a:prstGeom>
          <a:ln w="0">
            <a:noFill/>
          </a:ln>
        </p:spPr>
      </p:pic>
      <p:pic>
        <p:nvPicPr>
          <p:cNvPr id="354" name="Group 166" descr=""/>
          <p:cNvPicPr/>
          <p:nvPr/>
        </p:nvPicPr>
        <p:blipFill>
          <a:blip r:embed="rId4"/>
          <a:stretch/>
        </p:blipFill>
        <p:spPr>
          <a:xfrm>
            <a:off x="4559400" y="2889360"/>
            <a:ext cx="4078080" cy="2255760"/>
          </a:xfrm>
          <a:prstGeom prst="rect">
            <a:avLst/>
          </a:prstGeom>
          <a:ln w="0">
            <a:noFill/>
          </a:ln>
        </p:spPr>
      </p:pic>
      <p:sp>
        <p:nvSpPr>
          <p:cNvPr id="355" name="Text Box 32"/>
          <p:cNvSpPr/>
          <p:nvPr/>
        </p:nvSpPr>
        <p:spPr>
          <a:xfrm>
            <a:off x="6222960" y="3924360"/>
            <a:ext cx="1403280" cy="444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Times New Roman"/>
              </a:rPr>
              <a:t>Mathematical &amp; Statistical analysis</a:t>
            </a:r>
            <a:endParaRPr b="0" lang="en-US" sz="1200" spc="-1" strike="noStrike">
              <a:solidFill>
                <a:srgbClr val="000000"/>
              </a:solidFill>
              <a:latin typeface="Arial"/>
            </a:endParaRPr>
          </a:p>
        </p:txBody>
      </p:sp>
      <p:sp>
        <p:nvSpPr>
          <p:cNvPr id="356" name="Text Box 33"/>
          <p:cNvSpPr/>
          <p:nvPr/>
        </p:nvSpPr>
        <p:spPr>
          <a:xfrm>
            <a:off x="4722840" y="3303720"/>
            <a:ext cx="1403280" cy="450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Times New Roman"/>
              </a:rPr>
              <a:t>Empiricism, Heuristics</a:t>
            </a:r>
            <a:endParaRPr b="0" lang="en-US" sz="1200" spc="-1" strike="noStrike">
              <a:solidFill>
                <a:srgbClr val="000000"/>
              </a:solidFill>
              <a:latin typeface="Arial"/>
            </a:endParaRPr>
          </a:p>
        </p:txBody>
      </p:sp>
      <p:sp>
        <p:nvSpPr>
          <p:cNvPr id="357" name="Text Box 34"/>
          <p:cNvSpPr/>
          <p:nvPr/>
        </p:nvSpPr>
        <p:spPr>
          <a:xfrm>
            <a:off x="6222960" y="3303720"/>
            <a:ext cx="1403280" cy="450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Times New Roman"/>
              </a:rPr>
              <a:t>Rationalism</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Times New Roman"/>
              </a:rPr>
              <a:t>Logic deductions</a:t>
            </a:r>
            <a:endParaRPr b="0" lang="en-US" sz="1200" spc="-1" strike="noStrike">
              <a:solidFill>
                <a:srgbClr val="000000"/>
              </a:solidFill>
              <a:latin typeface="Arial"/>
            </a:endParaRPr>
          </a:p>
        </p:txBody>
      </p:sp>
      <p:pic>
        <p:nvPicPr>
          <p:cNvPr id="358" name="Group 10" descr=""/>
          <p:cNvPicPr/>
          <p:nvPr/>
        </p:nvPicPr>
        <p:blipFill>
          <a:blip r:embed="rId5"/>
          <a:stretch/>
        </p:blipFill>
        <p:spPr>
          <a:xfrm>
            <a:off x="7523280" y="2054160"/>
            <a:ext cx="1224000" cy="476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Picture 8" descr=""/>
          <p:cNvPicPr/>
          <p:nvPr/>
        </p:nvPicPr>
        <p:blipFill>
          <a:blip r:embed="rId1"/>
          <a:stretch/>
        </p:blipFill>
        <p:spPr>
          <a:xfrm>
            <a:off x="304920" y="3855960"/>
            <a:ext cx="8610480" cy="1690920"/>
          </a:xfrm>
          <a:prstGeom prst="rect">
            <a:avLst/>
          </a:prstGeom>
          <a:ln w="0">
            <a:noFill/>
          </a:ln>
        </p:spPr>
      </p:pic>
      <p:pic>
        <p:nvPicPr>
          <p:cNvPr id="360" name="Picture 9" descr=""/>
          <p:cNvPicPr/>
          <p:nvPr/>
        </p:nvPicPr>
        <p:blipFill>
          <a:blip r:embed="rId2"/>
          <a:stretch/>
        </p:blipFill>
        <p:spPr>
          <a:xfrm>
            <a:off x="304920" y="5456160"/>
            <a:ext cx="8661240" cy="555840"/>
          </a:xfrm>
          <a:prstGeom prst="rect">
            <a:avLst/>
          </a:prstGeom>
          <a:ln w="0">
            <a:noFill/>
          </a:ln>
        </p:spPr>
      </p:pic>
      <p:sp>
        <p:nvSpPr>
          <p:cNvPr id="361"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96464"/>
                </a:solidFill>
                <a:latin typeface="Franklin Gothic Book"/>
              </a:rPr>
              <a:t>III. A diversity of approaches from various disciplines</a:t>
            </a:r>
            <a:endParaRPr b="0" lang="en-US" sz="2400" spc="-1" strike="noStrike">
              <a:solidFill>
                <a:srgbClr val="696464"/>
              </a:solidFill>
              <a:latin typeface="Franklin Gothic Book"/>
            </a:endParaRPr>
          </a:p>
        </p:txBody>
      </p:sp>
      <p:sp>
        <p:nvSpPr>
          <p:cNvPr id="362" name=""/>
          <p:cNvSpPr txBox="1"/>
          <p:nvPr/>
        </p:nvSpPr>
        <p:spPr>
          <a:xfrm>
            <a:off x="304560" y="1206360"/>
            <a:ext cx="4267080" cy="2649600"/>
          </a:xfrm>
          <a:prstGeom prst="rect">
            <a:avLst/>
          </a:prstGeom>
          <a:noFill/>
          <a:ln w="0">
            <a:noFill/>
          </a:ln>
        </p:spPr>
        <p:txBody>
          <a:bodyPr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Model construction (Thonnat)</a:t>
            </a:r>
            <a:endParaRPr b="0" lang="en-US" sz="17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Perpetua"/>
              </a:rPr>
              <a:t>Users with a visual or ground experience (video surveillance operators, security agents… specify precisely the course of each scenario: how the individuals present in the scene behave before, during and after the event. </a:t>
            </a:r>
            <a:endParaRPr b="0" lang="en-US" sz="15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Perpetua"/>
              </a:rPr>
              <a:t>They may also provide visual invariants which are characteristic of each behavior wherever it occurs </a:t>
            </a:r>
            <a:endParaRPr b="0" lang="en-US" sz="1500" spc="-1" strike="noStrike">
              <a:solidFill>
                <a:srgbClr val="000000"/>
              </a:solidFill>
              <a:latin typeface="Perpetua"/>
            </a:endParaRPr>
          </a:p>
        </p:txBody>
      </p:sp>
      <p:sp>
        <p:nvSpPr>
          <p:cNvPr id="363"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64" name="Espace réservé du pied de pag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pic>
        <p:nvPicPr>
          <p:cNvPr id="365" name="Picture 13" descr=""/>
          <p:cNvPicPr/>
          <p:nvPr/>
        </p:nvPicPr>
        <p:blipFill>
          <a:blip r:embed="rId3"/>
          <a:stretch/>
        </p:blipFill>
        <p:spPr>
          <a:xfrm>
            <a:off x="4572000" y="1206360"/>
            <a:ext cx="4449600" cy="2640240"/>
          </a:xfrm>
          <a:prstGeom prst="rect">
            <a:avLst/>
          </a:prstGeom>
          <a:ln w="0">
            <a:noFill/>
          </a:ln>
        </p:spPr>
      </p:pic>
      <p:sp>
        <p:nvSpPr>
          <p:cNvPr id="366" name="Espace réservé du numéro de diapositiv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F99B9B-1C9B-4857-829E-F1D36B917C3B}"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68" name="Espace réservé de la date 7"/>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69" name="Espace réservé du pied de page 9"/>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70" name="Espace réservé du numéro de diapositiv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52CA7D-DC9C-4EC3-A1B5-513B6239C62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1" name=""/>
          <p:cNvSpPr txBox="1"/>
          <p:nvPr/>
        </p:nvSpPr>
        <p:spPr>
          <a:xfrm>
            <a:off x="914400" y="1188720"/>
            <a:ext cx="7772400" cy="4830840"/>
          </a:xfrm>
          <a:prstGeom prst="rect">
            <a:avLst/>
          </a:prstGeom>
          <a:noFill/>
          <a:ln w="0">
            <a:noFill/>
          </a:ln>
        </p:spPr>
        <p:txBody>
          <a:bodyPr anchor="t">
            <a:normAutofit/>
          </a:bodyPr>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M. Weiser, “The computer for the 21st century,” Scientific American, vol. 265, no. 3, pp. 94–104, 1991.</a:t>
            </a:r>
            <a:endParaRPr b="0" lang="en-US" sz="2200" spc="-1" strike="noStrike">
              <a:solidFill>
                <a:srgbClr val="000000"/>
              </a:solidFill>
              <a:latin typeface="Perpetua"/>
            </a:endParaRPr>
          </a:p>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A caring environment that senses and intelligently reacts to people, anticipating desires and intentions</a:t>
            </a:r>
            <a:endParaRPr b="0" lang="en-US" sz="2200" spc="-1" strike="noStrike">
              <a:solidFill>
                <a:srgbClr val="000000"/>
              </a:solidFill>
              <a:latin typeface="Perpetua"/>
            </a:endParaRPr>
          </a:p>
          <a:p>
            <a:pPr marL="272880" indent="-272880">
              <a:lnSpc>
                <a:spcPct val="80000"/>
              </a:lnSpc>
              <a:buClr>
                <a:srgbClr val="d34817"/>
              </a:buClr>
              <a:buSzPct val="8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The assumption that it is possible to detect, model, and understand situations of life in a way that would allow the system to pro-actively take the most appropriate actions</a:t>
            </a:r>
            <a:endParaRPr b="0" lang="en-US" sz="2200" spc="-1" strike="noStrike">
              <a:solidFill>
                <a:srgbClr val="000000"/>
              </a:solidFill>
              <a:latin typeface="Perpetua"/>
            </a:endParaRPr>
          </a:p>
          <a:p>
            <a:pPr marL="272880" indent="-272880">
              <a:lnSpc>
                <a:spcPct val="80000"/>
              </a:lnSpc>
              <a:buClr>
                <a:srgbClr val="d34817"/>
              </a:buClr>
              <a:buSzPct val="8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Extremely complex inferences based on relatively limited and imperfect data</a:t>
            </a:r>
            <a:endParaRPr b="0" lang="en-US" sz="2200" spc="-1" strike="noStrike">
              <a:solidFill>
                <a:srgbClr val="000000"/>
              </a:solidFill>
              <a:latin typeface="Perpetua"/>
            </a:endParaRPr>
          </a:p>
          <a:p>
            <a:pPr marL="272880" indent="-272880">
              <a:lnSpc>
                <a:spcPct val="80000"/>
              </a:lnSpc>
              <a:buClr>
                <a:srgbClr val="d34817"/>
              </a:buClr>
              <a:buSzPct val="8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Focusing very strongly on the creation of models for all sorts of relevant situations and environments.</a:t>
            </a:r>
            <a:endParaRPr b="0" lang="en-US" sz="2200" spc="-1" strike="noStrike">
              <a:solidFill>
                <a:srgbClr val="000000"/>
              </a:solidFill>
              <a:latin typeface="Perpetua"/>
            </a:endParaRPr>
          </a:p>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Perpetua"/>
              </a:rPr>
              <a:t>Rui José, Helena Rodrigues, Nuno Otero, Ambient Intelligence: Beyond the Inspiring Vision, Journal of Universal Computer Science, vol. 16, no. 12 (2010), 1480-1499</a:t>
            </a: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73" name=""/>
          <p:cNvSpPr txBox="1"/>
          <p:nvPr/>
        </p:nvSpPr>
        <p:spPr>
          <a:xfrm>
            <a:off x="914400" y="1188720"/>
            <a:ext cx="7772400" cy="4830840"/>
          </a:xfrm>
          <a:prstGeom prst="rect">
            <a:avLst/>
          </a:prstGeom>
          <a:noFill/>
          <a:ln w="0">
            <a:noFill/>
          </a:ln>
        </p:spPr>
        <p:txBody>
          <a:bodyPr anchor="t">
            <a:normAutofit fontScale="91000"/>
          </a:bodyPr>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ecision frames in such systems are modeled at several levels, from the local frames suited to the data acquisition routine to larger, global frames ensuring the compliance of the decision to institutional norms and functional requirements.</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K. Weber and M. Glynn, Making sense with institutions: Context, thought and action in weick's theory (Organization Studies, 2006)</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 Baker, D. Bridges, R. Hunter, G. Johnson, J. Krupa, J. Murphy, and K. Sorenson, Guidebook to Decision-Making Methods (2001)</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is implies the decomposition of the global problem into smaller, more manageable phenomena. Such a decomposition for human activity, from atomic nodes, identifies simple tasks from the stream of data, to more complex nodes representing activities at various levels, with more or less complex dependencies and temporal relations between them. </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esigning proven and robust models of human activity is still an open challenge</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U. Naeem, J. Bigham, Activity recognition using a hierarchical framework (Intl. Conf. on Pervasive Computing Technologies for Healthcare, Ambient Technologies for Diagnosing and Monitoring Chronic Patients Workshop, 2008)</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7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7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7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B5A5DD-BB51-4E7E-A9FE-4DF943E8CB5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1033" descr=""/>
          <p:cNvPicPr/>
          <p:nvPr/>
        </p:nvPicPr>
        <p:blipFill>
          <a:blip r:embed="rId1"/>
          <a:stretch/>
        </p:blipFill>
        <p:spPr>
          <a:xfrm>
            <a:off x="4519440" y="55440"/>
            <a:ext cx="4535640" cy="4876920"/>
          </a:xfrm>
          <a:prstGeom prst="rect">
            <a:avLst/>
          </a:prstGeom>
          <a:ln w="0">
            <a:noFill/>
          </a:ln>
        </p:spPr>
      </p:pic>
      <p:sp>
        <p:nvSpPr>
          <p:cNvPr id="378" name="PlaceHolder 1"/>
          <p:cNvSpPr>
            <a:spLocks noGrp="1"/>
          </p:cNvSpPr>
          <p:nvPr>
            <p:ph type="title"/>
          </p:nvPr>
        </p:nvSpPr>
        <p:spPr>
          <a:xfrm>
            <a:off x="221760" y="158760"/>
            <a:ext cx="403884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79" name="PlaceHolder 2"/>
          <p:cNvSpPr>
            <a:spLocks noGrp="1"/>
          </p:cNvSpPr>
          <p:nvPr>
            <p:ph/>
          </p:nvPr>
        </p:nvSpPr>
        <p:spPr>
          <a:xfrm>
            <a:off x="221760" y="1235160"/>
            <a:ext cx="3962520" cy="1604880"/>
          </a:xfrm>
          <a:prstGeom prst="rect">
            <a:avLst/>
          </a:prstGeom>
          <a:noFill/>
          <a:ln w="0">
            <a:noFill/>
          </a:ln>
        </p:spPr>
        <p:txBody>
          <a:bodyPr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Perpetua"/>
              </a:rPr>
              <a:t>N. Zouba, F. Bremond, M. Thonnat : a computer system to monitor older adults at home, Gerontotechnology, 2009</a:t>
            </a:r>
            <a:endParaRPr b="0" lang="en-US" sz="1900" spc="-1" strike="noStrike">
              <a:solidFill>
                <a:srgbClr val="000000"/>
              </a:solidFill>
              <a:latin typeface="Perpetua"/>
            </a:endParaRPr>
          </a:p>
        </p:txBody>
      </p:sp>
      <p:pic>
        <p:nvPicPr>
          <p:cNvPr id="380" name="Picture 1031" descr=""/>
          <p:cNvPicPr/>
          <p:nvPr/>
        </p:nvPicPr>
        <p:blipFill>
          <a:blip r:embed="rId2"/>
          <a:stretch/>
        </p:blipFill>
        <p:spPr>
          <a:xfrm>
            <a:off x="914400" y="4948200"/>
            <a:ext cx="6870600" cy="1909800"/>
          </a:xfrm>
          <a:prstGeom prst="rect">
            <a:avLst/>
          </a:prstGeom>
          <a:ln w="0">
            <a:noFill/>
          </a:ln>
        </p:spPr>
      </p:pic>
      <p:sp>
        <p:nvSpPr>
          <p:cNvPr id="381"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82" name="Espace réservé du numéro de diapositive 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DB7083-CCD2-458F-872F-95161912C80C}"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3" name="Espace réservé du pied de pag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85" name=""/>
          <p:cNvSpPr txBox="1"/>
          <p:nvPr/>
        </p:nvSpPr>
        <p:spPr>
          <a:xfrm>
            <a:off x="914400" y="1188720"/>
            <a:ext cx="7772400" cy="4830840"/>
          </a:xfrm>
          <a:prstGeom prst="rect">
            <a:avLst/>
          </a:prstGeom>
          <a:noFill/>
          <a:ln w="0">
            <a:noFill/>
          </a:ln>
        </p:spPr>
        <p:txBody>
          <a:bodyPr anchor="t">
            <a:normAutofit fontScale="89000"/>
          </a:bodyPr>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recognition task is not only driven by data models, it is also an ontology driven task (Chahuara 2012), with complex event models describing event components, together with their temporal or symbolic constraints, the type of scenario, as well as alarm-dependent information. </a:t>
            </a:r>
            <a:endParaRPr b="0" lang="en-US" sz="18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larms are often considered as off-limits or deviant measures, since most monitoring devices work with reference to medical standard values. They may also be introduced as a specic type of event or situation. </a:t>
            </a:r>
            <a:endParaRPr b="0" lang="en-US" sz="18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 the AMON system, three different situations are diagnosed: Everything OK, One parameter out of range, More than one parameter out of range, with only the last situation triggering an alarm. </a:t>
            </a:r>
            <a:endParaRPr b="0" lang="en-US" sz="18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ther approaches infer a global risk level from a set of features, computed independently for each physiological signal, and involving the detection of sharp changes, long-term trends, or distance from normal behavior</a:t>
            </a:r>
            <a:endParaRPr b="0" lang="en-US" sz="18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U. Anlinker et al, AMON: A Wearable Multiparameter Medical Monitoring and Alert System (IEEE Trans. Information tech. in Biomedicine. Vol. 8, 2004), pp 415-427</a:t>
            </a:r>
            <a:endParaRPr b="0" lang="en-US" sz="18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 Apiletti, E. Baralis, G. Bruno, T. Cerquitelli, Real-time analysis of physiological data to support medical applications (IEEE Tr. on Info. Tech. in Biomedicine, 2009)</a:t>
            </a:r>
            <a:endParaRPr b="0" lang="en-US" sz="1800" spc="-1" strike="noStrike">
              <a:solidFill>
                <a:srgbClr val="000000"/>
              </a:solidFill>
              <a:latin typeface="Perpetua"/>
            </a:endParaRPr>
          </a:p>
        </p:txBody>
      </p:sp>
      <p:sp>
        <p:nvSpPr>
          <p:cNvPr id="38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8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8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B39076-373F-4266-A721-49656963553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696464"/>
                </a:solidFill>
                <a:latin typeface="Franklin Gothic Book"/>
              </a:rPr>
              <a:t>Multi-agent system for advanced information processing in medicine</a:t>
            </a:r>
            <a:endParaRPr b="0" lang="en-US" sz="2500" spc="-1" strike="noStrike">
              <a:solidFill>
                <a:srgbClr val="696464"/>
              </a:solidFill>
              <a:latin typeface="Franklin Gothic Book"/>
            </a:endParaRPr>
          </a:p>
        </p:txBody>
      </p:sp>
      <p:sp>
        <p:nvSpPr>
          <p:cNvPr id="278" name=""/>
          <p:cNvSpPr txBox="1"/>
          <p:nvPr/>
        </p:nvSpPr>
        <p:spPr>
          <a:xfrm>
            <a:off x="914400" y="1188720"/>
            <a:ext cx="7772400" cy="4830840"/>
          </a:xfrm>
          <a:prstGeom prst="rect">
            <a:avLst/>
          </a:prstGeom>
          <a:noFill/>
          <a:ln w="0">
            <a:noFill/>
          </a:ln>
        </p:spPr>
        <p:txBody>
          <a:bodyPr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 – Image Processing: a decentralized view </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 – Multi-agent design</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I – A Cooperative Framework for Brain MRI Segmentation</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b05a"/>
                </a:solidFill>
                <a:latin typeface="Perpetua"/>
              </a:rPr>
              <a:t>Part IV – Ambient Intelligence: the case of monitoring </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 – Normative Multi-Agent System</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I – Abductive Agents for Human Activity Monitoring</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II – Evaluative Experiments</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9"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0"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1"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4AA509-7812-4C3B-9E13-262E2F682C3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45800" y="274680"/>
            <a:ext cx="1987560" cy="2230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9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9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9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3F8A11-0EFF-466B-B87F-74864C0BA28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93" name="Image 7" descr=""/>
          <p:cNvPicPr/>
          <p:nvPr/>
        </p:nvPicPr>
        <p:blipFill>
          <a:blip r:embed="rId1"/>
          <a:stretch/>
        </p:blipFill>
        <p:spPr>
          <a:xfrm>
            <a:off x="2133720" y="274680"/>
            <a:ext cx="6553080" cy="5800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0"/>
            <a:ext cx="7772400" cy="7732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95" name=""/>
          <p:cNvSpPr txBox="1"/>
          <p:nvPr/>
        </p:nvSpPr>
        <p:spPr>
          <a:xfrm>
            <a:off x="145800" y="1447560"/>
            <a:ext cx="3398760" cy="2259000"/>
          </a:xfrm>
          <a:prstGeom prst="rect">
            <a:avLst/>
          </a:prstGeom>
          <a:noFill/>
          <a:ln w="0">
            <a:noFill/>
          </a:ln>
        </p:spPr>
        <p:txBody>
          <a:bodyPr anchor="t">
            <a:normAutofit fontScale="91000"/>
          </a:bodyPr>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erpetua"/>
              </a:rPr>
              <a:t>Pedro Chahuara, François Portet, Michel Vacher, Context aware decision system in a smart home : knowledge representation and decision making using uncertain contextual information, The 4th International Workshop on Acquisition, Representation and Reasoning with Contextualized Knowledge (ARCOE-12), Montpellier, France, Aug. 2012, pp. 52-64.</a:t>
            </a:r>
            <a:endParaRPr b="0" lang="en-US" sz="1400" spc="-1" strike="noStrike">
              <a:solidFill>
                <a:srgbClr val="000000"/>
              </a:solidFill>
              <a:latin typeface="Perpetua"/>
            </a:endParaRPr>
          </a:p>
        </p:txBody>
      </p:sp>
      <p:sp>
        <p:nvSpPr>
          <p:cNvPr id="39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9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9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FAF45F-88B1-4823-874D-BAD78BE2640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99" name="Image 6" descr=""/>
          <p:cNvPicPr/>
          <p:nvPr/>
        </p:nvPicPr>
        <p:blipFill>
          <a:blip r:embed="rId1"/>
          <a:stretch/>
        </p:blipFill>
        <p:spPr>
          <a:xfrm>
            <a:off x="3741840" y="690480"/>
            <a:ext cx="5402160" cy="538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13464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 Decision-making, context processing</a:t>
            </a:r>
            <a:endParaRPr b="0" lang="en-US" sz="2800" spc="-1" strike="noStrike">
              <a:solidFill>
                <a:srgbClr val="696464"/>
              </a:solidFill>
              <a:latin typeface="Franklin Gothic Book"/>
            </a:endParaRPr>
          </a:p>
        </p:txBody>
      </p:sp>
      <p:sp>
        <p:nvSpPr>
          <p:cNvPr id="401" name=""/>
          <p:cNvSpPr txBox="1"/>
          <p:nvPr/>
        </p:nvSpPr>
        <p:spPr>
          <a:xfrm>
            <a:off x="914400" y="774720"/>
            <a:ext cx="7772400" cy="5245200"/>
          </a:xfrm>
          <a:prstGeom prst="rect">
            <a:avLst/>
          </a:prstGeom>
          <a:noFill/>
          <a:ln w="0">
            <a:noFill/>
          </a:ln>
        </p:spPr>
        <p:txBody>
          <a:bodyPr anchor="t">
            <a:normAutofit fontScale="88000"/>
          </a:bodyPr>
          <a:p>
            <a:pPr marL="240120" indent="-2401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cision making is a complex process, that may not be reduced to some straight-forward pattern matching task, since there is no one-to-one correspondence between data and situations. Rather, as widely recognized, there is a large gap between the world of data (noisy, incomplete and unreliable), and the world of situations (loosely-dened, involving crucial elements that are not measurable via sensors</a:t>
            </a:r>
            <a:endParaRPr b="0" lang="en-US" sz="2000" spc="-1" strike="noStrike">
              <a:solidFill>
                <a:srgbClr val="000000"/>
              </a:solidFill>
              <a:latin typeface="Perpetua"/>
            </a:endParaRPr>
          </a:p>
          <a:p>
            <a:pPr marL="240120" indent="-2401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antelopoulos, N. Bourbakis, Prognosis, a wearable health monitoring system for people at risk: methodology and modeling (IEEE Tr. on Info. Tech. in Biomed., 2010)</a:t>
            </a:r>
            <a:endParaRPr b="0" lang="en-US" sz="2000" spc="-1" strike="noStrike">
              <a:solidFill>
                <a:srgbClr val="000000"/>
              </a:solidFill>
              <a:latin typeface="Perpetua"/>
            </a:endParaRPr>
          </a:p>
          <a:p>
            <a:pPr marL="240120" indent="-2401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mbining multiple evidences and reasoning with multiple concurrent hypotheses is a way to reflect the uncertainty and lack of knowledge, thus coping with the intrinsic difficulty of the learning step. Fusing information as well as investigating multiple alternatives is important, but must be balanced by some mechanism to limit the amount of information to handle, and avoid combinatorial explosion. </a:t>
            </a:r>
            <a:endParaRPr b="0" lang="en-US" sz="2000" spc="-1" strike="noStrike">
              <a:solidFill>
                <a:srgbClr val="000000"/>
              </a:solidFill>
              <a:latin typeface="Perpetua"/>
            </a:endParaRPr>
          </a:p>
          <a:p>
            <a:pPr marL="240120" indent="-2401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K. Sycara and Y.-W. Seo, Combining Multiple Hypotheses for Identifying Human Activities (CMU-RI-TR-06-31, 2006)</a:t>
            </a:r>
            <a:endParaRPr b="0" lang="en-US" sz="2000" spc="-1" strike="noStrike">
              <a:solidFill>
                <a:srgbClr val="000000"/>
              </a:solidFill>
              <a:latin typeface="Perpetua"/>
            </a:endParaRPr>
          </a:p>
        </p:txBody>
      </p:sp>
      <p:sp>
        <p:nvSpPr>
          <p:cNvPr id="40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0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0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19EBFB-5B3F-466C-94A9-702884ECB3A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 Decision-making, context processing</a:t>
            </a:r>
            <a:endParaRPr b="0" lang="en-US" sz="2800" spc="-1" strike="noStrike">
              <a:solidFill>
                <a:srgbClr val="696464"/>
              </a:solidFill>
              <a:latin typeface="Franklin Gothic Book"/>
            </a:endParaRPr>
          </a:p>
        </p:txBody>
      </p:sp>
      <p:sp>
        <p:nvSpPr>
          <p:cNvPr id="406" name=""/>
          <p:cNvSpPr txBox="1"/>
          <p:nvPr/>
        </p:nvSpPr>
        <p:spPr>
          <a:xfrm>
            <a:off x="914400" y="1188720"/>
            <a:ext cx="7772400" cy="4830840"/>
          </a:xfrm>
          <a:prstGeom prst="rect">
            <a:avLst/>
          </a:prstGeom>
          <a:noFill/>
          <a:ln w="0">
            <a:noFill/>
          </a:ln>
        </p:spPr>
        <p:txBody>
          <a:bodyPr anchor="t">
            <a:normAutofit fontScale="89000"/>
          </a:bodyPr>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mplex data, like images, have no assertive value, without any external context to predicate their content</a:t>
            </a:r>
            <a:endParaRPr b="0" lang="en-US" sz="20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 Santini, Image Retrieval (IEEE Intelligent Systems, 2002), pp 79-81</a:t>
            </a:r>
            <a:endParaRPr b="0" lang="en-US" sz="20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Perpetua"/>
              </a:rPr>
              <a:t>The Guardian pioneer work proposed that several dimensions be considered for full context-based adaptation, involving environmental uncertainty, perceived and inferred conditions, dynamic congurations of demands and opportunities, resource limitations and performance criteria. </a:t>
            </a:r>
            <a:endParaRPr b="0" lang="en-US" sz="20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 Hayes-Roth, An architecture for adaptive intelligent systems (Articial Intel., 1995)</a:t>
            </a:r>
            <a:endParaRPr b="0" lang="en-US" sz="20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al-time adaptation to evolving conditions, to changes in user's activities is a key issue and should include recognizing new activities that the system has not been trained on as well as removing activities that are no longer performed.</a:t>
            </a:r>
            <a:endParaRPr b="0" lang="en-US" sz="20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Z. Abdallah, Mobile Activity Recognition Using Contextual Reasoning and Ubiquitous Data Stream Processing, (Research Proposal, 2010)</a:t>
            </a:r>
            <a:endParaRPr b="0" lang="en-US" sz="2000" spc="-1" strike="noStrike">
              <a:solidFill>
                <a:srgbClr val="000000"/>
              </a:solidFill>
              <a:latin typeface="Perpetua"/>
            </a:endParaRPr>
          </a:p>
        </p:txBody>
      </p:sp>
      <p:sp>
        <p:nvSpPr>
          <p:cNvPr id="40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0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0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547EC8-AA08-4EFE-947E-413A319E631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 Decision-making, context processing</a:t>
            </a:r>
            <a:endParaRPr b="0" lang="en-US" sz="2800" spc="-1" strike="noStrike">
              <a:solidFill>
                <a:srgbClr val="696464"/>
              </a:solidFill>
              <a:latin typeface="Franklin Gothic Book"/>
            </a:endParaRPr>
          </a:p>
        </p:txBody>
      </p:sp>
      <p:sp>
        <p:nvSpPr>
          <p:cNvPr id="411" name=""/>
          <p:cNvSpPr txBox="1"/>
          <p:nvPr/>
        </p:nvSpPr>
        <p:spPr>
          <a:xfrm>
            <a:off x="914400" y="1188720"/>
            <a:ext cx="7772400" cy="4830840"/>
          </a:xfrm>
          <a:prstGeom prst="rect">
            <a:avLst/>
          </a:prstGeom>
          <a:noFill/>
          <a:ln w="0">
            <a:noFill/>
          </a:ln>
        </p:spPr>
        <p:txBody>
          <a:bodyPr anchor="t">
            <a:normAutofit fontScale="91000"/>
          </a:bodyPr>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is context is often hypothesized rather than sensed, since the interpreted situations carry more information than the sensors can account for. In return, evaluating a situation model can result in feedback about the context, and scene understanding must be seen as a constant loop of perception and choices about how to perceive</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text must therefore be seen as a dynamic construct evolving over episodes of use, social interaction, internal goals, and local influences, and sensemaking be dynamically built as a match between captured data and elaborated expectations, in a framework of evolving requirements</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formal abductive approach to perception permits the influence of high-level cognition over low-level processing: there is an intertwined cycle of attention (sensor focusing), explanation (hypotheses building), and expectation (corroborating or refuting those hypotheses, thereby influencing attention)</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dvanced context aware systems should be able to predict context and act pro-actively. Contrary to most approaches where these tasks are considered in sequence (predict and then act), this author proposes a method to solve mutual dependency between actions and predictions based on reinforcement learning. </a:t>
            </a:r>
            <a:endParaRPr b="0" lang="en-US" sz="1800" spc="-1" strike="noStrike">
              <a:solidFill>
                <a:srgbClr val="000000"/>
              </a:solidFill>
              <a:latin typeface="Perpetua"/>
            </a:endParaRPr>
          </a:p>
        </p:txBody>
      </p:sp>
      <p:sp>
        <p:nvSpPr>
          <p:cNvPr id="41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1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1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49DD42-8343-47A8-8805-5CBA70A9457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 Decision-making, context processing</a:t>
            </a:r>
            <a:endParaRPr b="0" lang="en-US" sz="2800" spc="-1" strike="noStrike">
              <a:solidFill>
                <a:srgbClr val="696464"/>
              </a:solidFill>
              <a:latin typeface="Franklin Gothic Book"/>
            </a:endParaRPr>
          </a:p>
        </p:txBody>
      </p:sp>
      <p:sp>
        <p:nvSpPr>
          <p:cNvPr id="416" name=""/>
          <p:cNvSpPr txBox="1"/>
          <p:nvPr/>
        </p:nvSpPr>
        <p:spPr>
          <a:xfrm>
            <a:off x="914400" y="1188720"/>
            <a:ext cx="7772400" cy="4830840"/>
          </a:xfrm>
          <a:prstGeom prst="rect">
            <a:avLst/>
          </a:prstGeom>
          <a:noFill/>
          <a:ln w="0">
            <a:noFill/>
          </a:ln>
        </p:spPr>
        <p:txBody>
          <a:bodyPr anchor="t">
            <a:normAutofit fontScale="87000"/>
          </a:bodyPr>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Pantelopoulos, N. Bourbakis, Prognosis, a wearable health monitoring system for people at risk: methodology and modeling (IEEE Tr. on Info. Tech. in Biomed., 2010)</a:t>
            </a: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M. Felsberg, J. Wiklund, and G. Granlund, Exploratory learning structures in artificial cognitive systems (Image and Vision Computing, 2009), pp 16711687 </a:t>
            </a: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 Greenberg, Context as a dynamic construct (Human-Computer Interaction, 2001)</a:t>
            </a: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M. Shanahan, Perception as Abduction: Turning Sensor Data Into Meaningful Repre- sentation (Cognitive Science, 2005)</a:t>
            </a: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Boytsov, Context Reasoning, Context Prediction and Proactive Adaptation in Pervasive Computing Systems (Licentiate thesis, 2011)</a:t>
            </a: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1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1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1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109757-0A91-4C67-B1A5-0079961551B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15800" y="274320"/>
            <a:ext cx="494208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96464"/>
                </a:solidFill>
                <a:latin typeface="Franklin Gothic Book"/>
              </a:rPr>
              <a:t>V. Decision-making, context processing</a:t>
            </a:r>
            <a:endParaRPr b="0" lang="en-US" sz="2000" spc="-1" strike="noStrike">
              <a:solidFill>
                <a:srgbClr val="696464"/>
              </a:solidFill>
              <a:latin typeface="Franklin Gothic Book"/>
            </a:endParaRPr>
          </a:p>
        </p:txBody>
      </p:sp>
      <p:sp>
        <p:nvSpPr>
          <p:cNvPr id="421" name=""/>
          <p:cNvSpPr txBox="1"/>
          <p:nvPr/>
        </p:nvSpPr>
        <p:spPr>
          <a:xfrm>
            <a:off x="145800" y="1166400"/>
            <a:ext cx="4414680" cy="4853160"/>
          </a:xfrm>
          <a:prstGeom prst="rect">
            <a:avLst/>
          </a:prstGeom>
          <a:noFill/>
          <a:ln w="0">
            <a:noFill/>
          </a:ln>
        </p:spPr>
        <p:txBody>
          <a:bodyPr anchor="t">
            <a:normAutofit fontScale="92000"/>
          </a:bodyPr>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space populated by connected devices and services that are interrelated with each other, the environment and the people, supporting the users’ everyday activities in a meaningful way. </a:t>
            </a:r>
            <a:endParaRPr b="0" lang="en-US" sz="1600" spc="-1" strike="noStrike">
              <a:solidFill>
                <a:srgbClr val="000000"/>
              </a:solidFill>
              <a:latin typeface="Perpetua"/>
            </a:endParaRPr>
          </a:p>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veryday appliances, devices, and context aware artifacts are part of ambient ecologies. </a:t>
            </a:r>
            <a:endParaRPr b="0" lang="en-US" sz="1600" spc="-1" strike="noStrike">
              <a:solidFill>
                <a:srgbClr val="000000"/>
              </a:solidFill>
              <a:latin typeface="Perpetua"/>
            </a:endParaRPr>
          </a:p>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dding context awareness to artifacts can increase their usability and enable new user interaction and experiences. </a:t>
            </a:r>
            <a:endParaRPr b="0" lang="en-US" sz="1600" spc="-1" strike="noStrike">
              <a:solidFill>
                <a:srgbClr val="000000"/>
              </a:solidFill>
              <a:latin typeface="Perpetua"/>
            </a:endParaRPr>
          </a:p>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Given this fundamental capability single artifacts have the opportunity to participate in artifact- based service orchestration ranging from simple cooperation to developing smart behavior. </a:t>
            </a:r>
            <a:endParaRPr b="0" lang="en-US" sz="1600" spc="-1" strike="noStrike">
              <a:solidFill>
                <a:srgbClr val="000000"/>
              </a:solidFill>
              <a:latin typeface="Perpetua"/>
            </a:endParaRPr>
          </a:p>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flexible and distributed context-aware service model has been introduced using the OSGi and UPnP frameworks. UPnP virtualizes the home network environment into a common communication meta-medium.</a:t>
            </a:r>
            <a:endParaRPr b="0" lang="en-US" sz="1600" spc="-1" strike="noStrike">
              <a:solidFill>
                <a:srgbClr val="000000"/>
              </a:solidFill>
              <a:latin typeface="Perpetua"/>
            </a:endParaRPr>
          </a:p>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Meliones, D. Economou, I. Grammatikakis, 2008</a:t>
            </a:r>
            <a:endParaRPr b="0" lang="en-US" sz="1600" spc="-1" strike="noStrike">
              <a:solidFill>
                <a:srgbClr val="000000"/>
              </a:solidFill>
              <a:latin typeface="Perpetua"/>
            </a:endParaRPr>
          </a:p>
        </p:txBody>
      </p:sp>
      <p:sp>
        <p:nvSpPr>
          <p:cNvPr id="422"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23" name="Espace réservé du pied de page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pic>
        <p:nvPicPr>
          <p:cNvPr id="424" name="Picture 5" descr=""/>
          <p:cNvPicPr/>
          <p:nvPr/>
        </p:nvPicPr>
        <p:blipFill>
          <a:blip r:embed="rId1"/>
          <a:stretch/>
        </p:blipFill>
        <p:spPr>
          <a:xfrm>
            <a:off x="4952880" y="152280"/>
            <a:ext cx="3942000" cy="3198960"/>
          </a:xfrm>
          <a:prstGeom prst="rect">
            <a:avLst/>
          </a:prstGeom>
          <a:ln w="0">
            <a:noFill/>
          </a:ln>
        </p:spPr>
      </p:pic>
      <p:pic>
        <p:nvPicPr>
          <p:cNvPr id="425" name="Picture 6" descr=""/>
          <p:cNvPicPr/>
          <p:nvPr/>
        </p:nvPicPr>
        <p:blipFill>
          <a:blip r:embed="rId2"/>
          <a:stretch/>
        </p:blipFill>
        <p:spPr>
          <a:xfrm>
            <a:off x="4800600" y="3068640"/>
            <a:ext cx="4129200" cy="3538440"/>
          </a:xfrm>
          <a:prstGeom prst="rect">
            <a:avLst/>
          </a:prstGeom>
          <a:ln w="0">
            <a:noFill/>
          </a:ln>
        </p:spPr>
      </p:pic>
      <p:sp>
        <p:nvSpPr>
          <p:cNvPr id="426"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2D2615-DD6B-4CF0-BB35-400116A2EC7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 Assessment, validation, evaluation issues</a:t>
            </a:r>
            <a:endParaRPr b="0" lang="en-US" sz="2800" spc="-1" strike="noStrike">
              <a:solidFill>
                <a:srgbClr val="696464"/>
              </a:solidFill>
              <a:latin typeface="Franklin Gothic Book"/>
            </a:endParaRPr>
          </a:p>
        </p:txBody>
      </p:sp>
      <p:sp>
        <p:nvSpPr>
          <p:cNvPr id="428" name=""/>
          <p:cNvSpPr txBox="1"/>
          <p:nvPr/>
        </p:nvSpPr>
        <p:spPr>
          <a:xfrm>
            <a:off x="914400" y="1188720"/>
            <a:ext cx="7772400" cy="4830840"/>
          </a:xfrm>
          <a:prstGeom prst="rect">
            <a:avLst/>
          </a:prstGeom>
          <a:noFill/>
          <a:ln w="0">
            <a:noFill/>
          </a:ln>
        </p:spPr>
        <p:txBody>
          <a:bodyPr anchor="t">
            <a:normAutofit fontScale="91000"/>
          </a:bodyPr>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evaluation of adaptive intelligent systems calls for rather empirical, qualitative performance criteria, replacing the usual correctness, efficiency, and completeness criteria with criteria like effectiveness, timeliness or robustness.</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 Hayes-Roth, An architecture for adaptive intelligent systems (Articial Intel., 1995)</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goal is then not to achieve optimality in some particular form of adaptation but rather to integrate gracefully the required forms of adaptation, developing architectures that meet a kind of sufficiency criterion, while conforming to some parsimony (minimizing the number of component mechanisms). </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While benchmarking approaches have recently emerged in the field of activity recognition, several authors promote the use of dedicated evaluation criteria.</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 Roggen et al, Opportunity: Towards opportunistic activity and context recognition systems (IEEE Wrkshp. on Autononomic and Opportunistic Communications, 2009)</a:t>
            </a:r>
            <a:endParaRPr b="0" lang="en-US" sz="2000" spc="-1" strike="noStrike">
              <a:solidFill>
                <a:srgbClr val="000000"/>
              </a:solidFill>
              <a:latin typeface="Perpetua"/>
            </a:endParaRPr>
          </a:p>
        </p:txBody>
      </p:sp>
      <p:sp>
        <p:nvSpPr>
          <p:cNvPr id="42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3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3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A8A713-031A-419D-8870-2CAAD4841B3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 Assessment, validation, evaluation issues</a:t>
            </a:r>
            <a:endParaRPr b="0" lang="en-US" sz="2800" spc="-1" strike="noStrike">
              <a:solidFill>
                <a:srgbClr val="696464"/>
              </a:solidFill>
              <a:latin typeface="Franklin Gothic Book"/>
            </a:endParaRPr>
          </a:p>
        </p:txBody>
      </p:sp>
      <p:sp>
        <p:nvSpPr>
          <p:cNvPr id="433" name=""/>
          <p:cNvSpPr txBox="1"/>
          <p:nvPr/>
        </p:nvSpPr>
        <p:spPr>
          <a:xfrm>
            <a:off x="914400" y="1212480"/>
            <a:ext cx="7772400" cy="4807080"/>
          </a:xfrm>
          <a:prstGeom prst="rect">
            <a:avLst/>
          </a:prstGeom>
          <a:noFill/>
          <a:ln w="0">
            <a:noFill/>
          </a:ln>
        </p:spPr>
        <p:txBody>
          <a:bodyPr anchor="t">
            <a:normAutofit fontScale="90000"/>
          </a:bodyPr>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text state trajectory evaluates the pervasive systems' stability or instability in a given context. </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Padovitz, S. Loke, A. Zaslavsky, The ECORA framework: A hybrid architecture for context-oriented pervasive computing (Pervasive and Mobile Computing, 2008)</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role of action in perception is not only to maximize useful information, but also to minimize useless information.</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M. Shanahan, Perception as Abduction: Turning Sensor Data Into Meaningful Representation (Cognitive Science, 2005)</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 </a:t>
            </a:r>
            <a:r>
              <a:rPr b="0" lang="fr-FR" sz="1800" spc="-1" strike="noStrike">
                <a:solidFill>
                  <a:srgbClr val="000000"/>
                </a:solidFill>
                <a:latin typeface="Perpetua"/>
              </a:rPr>
              <a:t>A study to reduce confirmation bias in intelligence analysis suggests several measures of interest, among which the number of different solutions explicitly generated by the individual experts, the relative depth to which they consider each solution, or their focus over time. </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 Madsen, D. Hicks, Investigating the Cognitive Eects of Externalization Tools (Intelligence Tools Workshop, 2006)</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n-functional and quality-of-service properties become prevalent over the pure services in the case of very large deployment.</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Ferscha, 20 Years Past Weiser: What Next? (IEEE Pervasive Computing, 2012)</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3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3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3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144A28-94E0-49F0-B3CF-635C0E2A550B}"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 Assessment, validation, evaluation issues</a:t>
            </a:r>
            <a:endParaRPr b="0" lang="en-US" sz="2800" spc="-1" strike="noStrike">
              <a:solidFill>
                <a:srgbClr val="696464"/>
              </a:solidFill>
              <a:latin typeface="Franklin Gothic Book"/>
            </a:endParaRPr>
          </a:p>
        </p:txBody>
      </p:sp>
      <p:sp>
        <p:nvSpPr>
          <p:cNvPr id="438" name="PlaceHolder 2"/>
          <p:cNvSpPr>
            <a:spLocks noGrp="1"/>
          </p:cNvSpPr>
          <p:nvPr>
            <p:ph/>
          </p:nvPr>
        </p:nvSpPr>
        <p:spPr>
          <a:xfrm>
            <a:off x="914400" y="1188720"/>
            <a:ext cx="7772400" cy="4830840"/>
          </a:xfrm>
          <a:prstGeom prst="rect">
            <a:avLst/>
          </a:prstGeom>
          <a:noFill/>
          <a:ln w="0">
            <a:noFill/>
          </a:ln>
        </p:spPr>
        <p:txBody>
          <a:bodyPr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Perpetua"/>
              </a:rPr>
              <a:t>End-user assessment </a:t>
            </a:r>
            <a:endParaRPr b="0" lang="en-US" sz="21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end-users were asked to use the system, as part as of their regular surveillance task, for a few hours a day during a week and evaluate its performance and usefulness. The results were documented by the completion of a comprehensive questionnaire</a:t>
            </a:r>
            <a:endParaRPr b="0" lang="en-US" sz="18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Perpetua"/>
              </a:rPr>
              <a:t>Ground-truth data </a:t>
            </a:r>
            <a:endParaRPr b="0" lang="en-US" sz="21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Visual inspection and manual video - subjective - annotation (XML language) performed by a competent authority examining sequences and deciding which behaviors have occured</a:t>
            </a:r>
            <a:endParaRPr b="0" lang="en-US" sz="18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Perpetua"/>
              </a:rPr>
              <a:t>Data set collection</a:t>
            </a:r>
            <a:endParaRPr b="0" lang="en-US" sz="21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set of video sequences representing abnormal and closely related but normal situations are recorded with the help of actors if necessary</a:t>
            </a:r>
            <a:endParaRPr b="0" lang="en-US" sz="18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Perpetua"/>
              </a:rPr>
              <a:t>Design and Assessment of an Intelligent Activity Monitoring Platform, Thonnat et al., Eurasip 2009</a:t>
            </a:r>
            <a:endParaRPr b="0" lang="en-US" sz="2100" spc="-1" strike="noStrike">
              <a:solidFill>
                <a:srgbClr val="000000"/>
              </a:solidFill>
              <a:latin typeface="Perpetua"/>
            </a:endParaRPr>
          </a:p>
        </p:txBody>
      </p:sp>
      <p:sp>
        <p:nvSpPr>
          <p:cNvPr id="43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40"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FC460D-10D0-4FF4-B2AB-A4E44CF5DF5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41" name="Espace réservé du pied de page 5"/>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IV – Ambient Intelligence: the case of monitoring </a:t>
            </a:r>
            <a:endParaRPr b="0" lang="en-US" sz="2800" spc="-1" strike="noStrike">
              <a:solidFill>
                <a:srgbClr val="696464"/>
              </a:solidFill>
              <a:latin typeface="Franklin Gothic Book"/>
            </a:endParaRPr>
          </a:p>
        </p:txBody>
      </p:sp>
      <p:sp>
        <p:nvSpPr>
          <p:cNvPr id="283" name=""/>
          <p:cNvSpPr txBox="1"/>
          <p:nvPr/>
        </p:nvSpPr>
        <p:spPr>
          <a:xfrm>
            <a:off x="914400" y="1188720"/>
            <a:ext cx="7772400" cy="4830840"/>
          </a:xfrm>
          <a:prstGeom prst="rect">
            <a:avLst/>
          </a:prstGeom>
          <a:noFill/>
          <a:ln w="0">
            <a:noFill/>
          </a:ln>
        </p:spPr>
        <p:txBody>
          <a:bodyPr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I. Infrastructures for Data collection &amp; communication</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II. Architectures: towards dependable open software development</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III. A diversity of approaches from various disciplines</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IV. Modelling situations of life</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 Decision-making, context processing</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I. Assessment, validation, evaluation issues</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II. Pervasive Social Computing, a vision for the future</a:t>
            </a:r>
            <a:endParaRPr b="0" lang="en-US" sz="2400" spc="-1" strike="noStrike">
              <a:solidFill>
                <a:srgbClr val="000000"/>
              </a:solidFill>
              <a:latin typeface="Perpetua"/>
            </a:endParaRPr>
          </a:p>
        </p:txBody>
      </p:sp>
      <p:sp>
        <p:nvSpPr>
          <p:cNvPr id="28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BA956F-AF12-474F-B239-D8A38FD7F1E0}"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680"/>
            <a:ext cx="8229600" cy="792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 </a:t>
            </a:r>
            <a:endParaRPr b="0" lang="en-US" sz="2800" spc="-1" strike="noStrike">
              <a:solidFill>
                <a:srgbClr val="696464"/>
              </a:solidFill>
              <a:latin typeface="Franklin Gothic Book"/>
            </a:endParaRPr>
          </a:p>
        </p:txBody>
      </p:sp>
      <p:sp>
        <p:nvSpPr>
          <p:cNvPr id="443" name="Espace réservé de la date 9"/>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44" name="Espace réservé du pied de page 11"/>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45" name="Espace réservé du numéro de diapositive 10"/>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91734D-103C-40CF-9973-D1CD4B2C810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46" name=""/>
          <p:cNvSpPr txBox="1"/>
          <p:nvPr/>
        </p:nvSpPr>
        <p:spPr>
          <a:xfrm>
            <a:off x="457200" y="2093760"/>
            <a:ext cx="4038480" cy="2880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Perpetua"/>
              </a:rPr>
              <a:t>Social Mining </a:t>
            </a:r>
            <a:endParaRPr b="0" lang="en-US" sz="20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ocial networks as sensors</a:t>
            </a:r>
            <a:endParaRPr b="0" lang="en-US" sz="20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xtract information from Twitter, Facebook, Foursquare or Flickr, track individual interests, preferences, and activities</a:t>
            </a:r>
            <a:endParaRPr b="0" lang="en-US" sz="20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bserve people interacting in the social sphere</a:t>
            </a:r>
            <a:endParaRPr b="0" lang="en-US" sz="2000" spc="-1" strike="noStrike">
              <a:solidFill>
                <a:srgbClr val="000000"/>
              </a:solidFill>
              <a:latin typeface="Perpetua"/>
            </a:endParaRPr>
          </a:p>
        </p:txBody>
      </p:sp>
      <p:sp>
        <p:nvSpPr>
          <p:cNvPr id="447" name=""/>
          <p:cNvSpPr txBox="1"/>
          <p:nvPr/>
        </p:nvSpPr>
        <p:spPr>
          <a:xfrm>
            <a:off x="4648320" y="2093760"/>
            <a:ext cx="4038480" cy="2880000"/>
          </a:xfrm>
          <a:prstGeom prst="rect">
            <a:avLst/>
          </a:prstGeom>
          <a:noFill/>
          <a:ln w="0">
            <a:noFill/>
          </a:ln>
        </p:spPr>
        <p:txBody>
          <a:bodyPr anchor="t">
            <a:normAutofit fontScale="90000"/>
          </a:bodyPr>
          <a:p>
            <a:pPr marL="245520" indent="-2455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Perpetua"/>
              </a:rPr>
              <a:t>Pervasive Sensing </a:t>
            </a:r>
            <a:endParaRPr b="0" lang="en-US" sz="20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Getting GPS, temperature, light, sound, audio, video, proximity information of other devices from sensors possibly embedded in portable and mobile devices like modern smart phones, tablets, and notebooks </a:t>
            </a:r>
            <a:endParaRPr b="0" lang="en-US" sz="20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bserve people interacting with the physical world</a:t>
            </a:r>
            <a:endParaRPr b="0" lang="en-US" sz="20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448" name="Espace réservé du contenu 5"/>
          <p:cNvSpPr/>
          <p:nvPr/>
        </p:nvSpPr>
        <p:spPr>
          <a:xfrm>
            <a:off x="457200" y="4960800"/>
            <a:ext cx="8229600" cy="124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D. Schuster, et al., « Pervasive Social Context - Taxonomy and Survey » - ACM Transactions on Intelligent Systems and Technology, Vol. 9, No. 4, Article 39, 2012</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A. Rosi et al.,  Social Sensors and Pervasive Services: Approaches and Perspectives, Percom Workshops 2011:525-530</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9" name="Espace réservé du contenu 5"/>
          <p:cNvSpPr/>
          <p:nvPr/>
        </p:nvSpPr>
        <p:spPr>
          <a:xfrm>
            <a:off x="457200" y="1112760"/>
            <a:ext cx="8229600" cy="91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Perpetua"/>
              </a:rPr>
              <a:t>The prospect of coupling the context provided from the social network sphere (Social Mining) with sensing capabilities of current mobile devices (Pervasive Sens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a:t>
            </a:r>
            <a:endParaRPr b="0" lang="en-US" sz="2800" spc="-1" strike="noStrike">
              <a:solidFill>
                <a:srgbClr val="696464"/>
              </a:solidFill>
              <a:latin typeface="Franklin Gothic Book"/>
            </a:endParaRPr>
          </a:p>
        </p:txBody>
      </p:sp>
      <p:sp>
        <p:nvSpPr>
          <p:cNvPr id="451"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52"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53"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25937F-305C-42F1-B16C-39F4A325E8EC}"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54" name=""/>
          <p:cNvSpPr txBox="1"/>
          <p:nvPr/>
        </p:nvSpPr>
        <p:spPr>
          <a:xfrm>
            <a:off x="914400" y="1188720"/>
            <a:ext cx="7772400" cy="4830840"/>
          </a:xfrm>
          <a:prstGeom prst="rect">
            <a:avLst/>
          </a:prstGeom>
          <a:noFill/>
          <a:ln w="0">
            <a:noFill/>
          </a:ln>
        </p:spPr>
        <p:txBody>
          <a:bodyPr anchor="t">
            <a:normAutofit fontScale="89000"/>
          </a:bodyPr>
          <a:p>
            <a:pPr marL="242640" indent="-24264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First level of integration</a:t>
            </a:r>
            <a:endParaRPr b="0" lang="en-US" sz="2400" spc="-1" strike="noStrike">
              <a:solidFill>
                <a:srgbClr val="000000"/>
              </a:solidFill>
              <a:latin typeface="Perpetua"/>
            </a:endParaRPr>
          </a:p>
          <a:p>
            <a:pPr marL="242640" indent="-24264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Feeding pervasive services and applications with social network information</a:t>
            </a:r>
            <a:endParaRPr b="0" lang="en-US" sz="2400" spc="-1" strike="noStrike">
              <a:solidFill>
                <a:srgbClr val="000000"/>
              </a:solidFill>
              <a:latin typeface="Perpetua"/>
            </a:endParaRPr>
          </a:p>
          <a:p>
            <a:pPr marL="242640" indent="-24264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an den Broeck et al. 2010]</a:t>
            </a:r>
            <a:endParaRPr b="0" lang="en-US" sz="2400" spc="-1" strike="noStrike">
              <a:solidFill>
                <a:srgbClr val="000000"/>
              </a:solidFill>
              <a:latin typeface="Perpetua"/>
            </a:endParaRPr>
          </a:p>
          <a:p>
            <a:pPr lvl="1" marL="487080" indent="-203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grating real-world data from face-to-face proximity with identities in online social networks</a:t>
            </a:r>
            <a:endParaRPr b="0" lang="en-US" sz="2000" spc="-1" strike="noStrike">
              <a:solidFill>
                <a:srgbClr val="000000"/>
              </a:solidFill>
              <a:latin typeface="Perpetua"/>
            </a:endParaRPr>
          </a:p>
          <a:p>
            <a:pPr lvl="1" marL="487080" indent="-203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 application for people attending scientific conferences: personal profiles of the participants automatically generated using Web 2.0 systems and semantic data sources, and integrated in real-time with face-to-face proximity relations detected via RFID badges </a:t>
            </a:r>
            <a:endParaRPr b="0" lang="en-US" sz="2000" spc="-1" strike="noStrike">
              <a:solidFill>
                <a:srgbClr val="000000"/>
              </a:solidFill>
              <a:latin typeface="Perpetua"/>
            </a:endParaRPr>
          </a:p>
          <a:p>
            <a:pPr marL="242640" indent="-24264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Lovett et al. 2010] </a:t>
            </a:r>
            <a:endParaRPr b="0" lang="en-US" sz="2400" spc="-1" strike="noStrike">
              <a:solidFill>
                <a:srgbClr val="000000"/>
              </a:solidFill>
              <a:latin typeface="Perpetua"/>
            </a:endParaRPr>
          </a:p>
          <a:p>
            <a:pPr lvl="1" marL="487080" indent="-203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mbine the user’s personal calendar with social network posts </a:t>
            </a:r>
            <a:endParaRPr b="0" lang="en-US" sz="2000" spc="-1" strike="noStrike">
              <a:solidFill>
                <a:srgbClr val="000000"/>
              </a:solidFill>
              <a:latin typeface="Perpetua"/>
            </a:endParaRPr>
          </a:p>
          <a:p>
            <a:pPr lvl="1" marL="487080" indent="-203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personal calendar as a sensor and indexer of real-world events.</a:t>
            </a:r>
            <a:endParaRPr b="0" lang="en-US" sz="2000" spc="-1" strike="noStrike">
              <a:solidFill>
                <a:srgbClr val="000000"/>
              </a:solidFill>
              <a:latin typeface="Perpetua"/>
            </a:endParaRPr>
          </a:p>
          <a:p>
            <a:pPr marL="242640" indent="-24264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a:t>
            </a:r>
            <a:endParaRPr b="0" lang="en-US" sz="2800" spc="-1" strike="noStrike">
              <a:solidFill>
                <a:srgbClr val="696464"/>
              </a:solidFill>
              <a:latin typeface="Franklin Gothic Book"/>
            </a:endParaRPr>
          </a:p>
        </p:txBody>
      </p:sp>
      <p:sp>
        <p:nvSpPr>
          <p:cNvPr id="456"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57"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58"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E0DFC5-92BC-4EB4-8F35-ADDB77DFF7F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59" name=""/>
          <p:cNvSpPr txBox="1"/>
          <p:nvPr/>
        </p:nvSpPr>
        <p:spPr>
          <a:xfrm>
            <a:off x="914400" y="1188720"/>
            <a:ext cx="7772400" cy="4830840"/>
          </a:xfrm>
          <a:prstGeom prst="rect">
            <a:avLst/>
          </a:prstGeom>
          <a:noFill/>
          <a:ln w="0">
            <a:noFill/>
          </a:ln>
        </p:spPr>
        <p:txBody>
          <a:bodyPr anchor="t">
            <a:normAutofit fontScale="85000"/>
          </a:bodyPr>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econd level of integration</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ocial network services as a way to collect and organize data coming from pervasive sensors</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social network infrastructure playing the role of middleware for pervasive services and applications, i.e., as a socio-pervasive medium to distribute and fetch pervasive content and information</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Sensors [Baqer and Kamal 2009]: employ micro-blogging to publish and share sensory data and resources, with short messages used to convey sensory data of the physical world</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Demirbas et al. 2010]: exploiting Twitter as a publish-subscribe system for the storing and diffusion of pervasive sensors events and user-provided data - a crowd-sourced weather radar, and a participatory noise-mapping application</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a:t>
            </a:r>
            <a:endParaRPr b="0" lang="en-US" sz="2800" spc="-1" strike="noStrike">
              <a:solidFill>
                <a:srgbClr val="696464"/>
              </a:solidFill>
              <a:latin typeface="Franklin Gothic Book"/>
            </a:endParaRPr>
          </a:p>
        </p:txBody>
      </p:sp>
      <p:sp>
        <p:nvSpPr>
          <p:cNvPr id="461" name=""/>
          <p:cNvSpPr txBox="1"/>
          <p:nvPr/>
        </p:nvSpPr>
        <p:spPr>
          <a:xfrm>
            <a:off x="914400" y="1188720"/>
            <a:ext cx="7772400" cy="4830840"/>
          </a:xfrm>
          <a:prstGeom prst="rect">
            <a:avLst/>
          </a:prstGeom>
          <a:noFill/>
          <a:ln w="0">
            <a:noFill/>
          </a:ln>
        </p:spPr>
        <p:txBody>
          <a:bodyPr anchor="t">
            <a:normAutofit fontScale="93000"/>
          </a:bodyPr>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Using Social media (SM) for Crisis &amp; Emergency</a:t>
            </a:r>
            <a:endParaRPr b="0" lang="en-US" sz="24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Julie Dugdale, Forum Web Intelligence,  2012]</a:t>
            </a:r>
            <a:endParaRPr b="0" lang="en-US" sz="24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creasingly large portion of the population uses SM</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eople want to receive, and are actively seeking, emergency information through SM</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eople report and contribute emergency/events information they observe through SM (iReport, uReport, iWitness, YouTube) </a:t>
            </a:r>
            <a:endParaRPr b="0" lang="en-US" sz="20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akaki et al. 2010]</a:t>
            </a:r>
            <a:endParaRPr b="0" lang="en-US" sz="24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ability to identify global trends and events via Twitter is the core of numerous applications, such as Tweettronics (</a:t>
            </a:r>
            <a:r>
              <a:rPr b="0" lang="fr-FR" sz="1800" spc="-1" strike="noStrike">
                <a:solidFill>
                  <a:srgbClr val="000000"/>
                </a:solidFill>
                <a:latin typeface="Perpetua"/>
              </a:rPr>
              <a:t>http://www.tweettronics.com/</a:t>
            </a:r>
            <a:r>
              <a:rPr b="0" lang="fr-FR" sz="2000" spc="-1" strike="noStrike">
                <a:solidFill>
                  <a:srgbClr val="000000"/>
                </a:solidFill>
                <a:latin typeface="Perpetua"/>
              </a:rPr>
              <a:t>)</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witter as a seismometer for the detection of earthquakes, simply by observing user tweets</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r oriented to identify market trends and brand awareness for marketing purposes</a:t>
            </a:r>
            <a:endParaRPr b="0" lang="en-US" sz="20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462"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63"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64"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0196EB-817A-4156-B4BD-D0870DAEE2E0}"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a:t>
            </a:r>
            <a:endParaRPr b="0" lang="en-US" sz="2800" spc="-1" strike="noStrike">
              <a:solidFill>
                <a:srgbClr val="696464"/>
              </a:solidFill>
              <a:latin typeface="Franklin Gothic Book"/>
            </a:endParaRPr>
          </a:p>
        </p:txBody>
      </p:sp>
      <p:sp>
        <p:nvSpPr>
          <p:cNvPr id="466"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67"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68"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8286C2-C3C9-4416-8490-5A824355BDE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69" name=""/>
          <p:cNvSpPr txBox="1"/>
          <p:nvPr/>
        </p:nvSpPr>
        <p:spPr>
          <a:xfrm>
            <a:off x="914400" y="1188720"/>
            <a:ext cx="7772400" cy="4830840"/>
          </a:xfrm>
          <a:prstGeom prst="rect">
            <a:avLst/>
          </a:prstGeom>
          <a:noFill/>
          <a:ln w="0">
            <a:noFill/>
          </a:ln>
        </p:spPr>
        <p:txBody>
          <a:bodyPr anchor="t">
            <a:normAutofit fontScale="91000"/>
          </a:bodyPr>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rd level of integration</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xtracting information from both pervasive services and social networks</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enseFace [Rahman et al. 2010] - a context-aware social network framework that can dynamically mash-up user sensory data and social networks - push sensory data collected from user personal devices to the members of social networks, further providing realtime query of any sensory data by any authorized member of each social networks</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lguin et al. 2008]: sociometric badge = electronic badge around the neck + mobile phone</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cognize common daily activities and analyze activity level, extract speech features and analyze conversational dynamics, detect people in close proximity and analyze face-to-face interaction time</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rrelate temporal changes in social interaction patterns with performance of individual actors and groups (self-reported, task completion times) </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dentifying Interaction Patterns in a Hospital to identify possible bottlenecks and inefficiencies in patient throughput</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696464"/>
                </a:solidFill>
                <a:latin typeface="Franklin Gothic Book"/>
              </a:rPr>
              <a:t>VII. Pervasive Social Computing, a vision for the future</a:t>
            </a:r>
            <a:endParaRPr b="0" lang="en-US" sz="2500" spc="-1" strike="noStrike">
              <a:solidFill>
                <a:srgbClr val="696464"/>
              </a:solidFill>
              <a:latin typeface="Franklin Gothic Book"/>
            </a:endParaRPr>
          </a:p>
        </p:txBody>
      </p:sp>
      <p:sp>
        <p:nvSpPr>
          <p:cNvPr id="471"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72"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73"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4F2636-3438-4376-9EFA-785EA444D32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4" name=""/>
          <p:cNvSpPr txBox="1"/>
          <p:nvPr/>
        </p:nvSpPr>
        <p:spPr>
          <a:xfrm>
            <a:off x="914400" y="1188720"/>
            <a:ext cx="7772400" cy="4830840"/>
          </a:xfrm>
          <a:prstGeom prst="rect">
            <a:avLst/>
          </a:prstGeom>
          <a:noFill/>
          <a:ln w="0">
            <a:noFill/>
          </a:ln>
        </p:spPr>
        <p:txBody>
          <a:bodyPr anchor="t">
            <a:normAutofit fontScale="98000"/>
          </a:bodyPr>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formation accuracy</a:t>
            </a:r>
            <a:endParaRPr b="0" lang="en-US" sz="2000" spc="-1" strike="noStrike">
              <a:solidFill>
                <a:srgbClr val="000000"/>
              </a:solidFill>
              <a:latin typeface="Perpetua"/>
            </a:endParaRPr>
          </a:p>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myriad of participant expertise levels, participant expectations and participant motivations, </a:t>
            </a:r>
            <a:r>
              <a:rPr b="0" lang="en-US" sz="2000" spc="-1" strike="noStrike">
                <a:solidFill>
                  <a:srgbClr val="000000"/>
                </a:solidFill>
                <a:latin typeface="Perpetua"/>
              </a:rPr>
              <a:t>providing incomplete and inconsistent information</a:t>
            </a:r>
            <a:endParaRPr b="0" lang="en-US" sz="2000" spc="-1" strike="noStrike">
              <a:solidFill>
                <a:srgbClr val="000000"/>
              </a:solidFill>
              <a:latin typeface="Perpetua"/>
            </a:endParaRPr>
          </a:p>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people behind social sensors can post whatever (even wrong) information in whatever format, or simply not post anything at all</a:t>
            </a:r>
            <a:endParaRPr b="0" lang="en-US" sz="2000" spc="-1" strike="noStrike">
              <a:solidFill>
                <a:srgbClr val="000000"/>
              </a:solidFill>
              <a:latin typeface="Perpetua"/>
            </a:endParaRPr>
          </a:p>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g user profile data</a:t>
            </a:r>
            <a:endParaRPr b="0" lang="en-US" sz="2000" spc="-1" strike="noStrike">
              <a:solidFill>
                <a:srgbClr val="000000"/>
              </a:solidFill>
              <a:latin typeface="Perpetua"/>
            </a:endParaRPr>
          </a:p>
          <a:p>
            <a:pPr lvl="1" marL="536400" indent="-22392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may be partial (e.g., user does not want to disclose some information)</a:t>
            </a:r>
            <a:endParaRPr b="0" lang="en-US" sz="1700" spc="-1" strike="noStrike">
              <a:solidFill>
                <a:srgbClr val="000000"/>
              </a:solidFill>
              <a:latin typeface="Perpetua"/>
            </a:endParaRPr>
          </a:p>
          <a:p>
            <a:pPr lvl="1" marL="536400" indent="-22392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vague (e.g., user mentions only general interest in sports)</a:t>
            </a:r>
            <a:endParaRPr b="0" lang="en-US" sz="1700" spc="-1" strike="noStrike">
              <a:solidFill>
                <a:srgbClr val="000000"/>
              </a:solidFill>
              <a:latin typeface="Perpetua"/>
            </a:endParaRPr>
          </a:p>
          <a:p>
            <a:pPr lvl="1" marL="536400" indent="-22392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 </a:t>
            </a:r>
            <a:r>
              <a:rPr b="0" lang="fr-FR" sz="1700" spc="-1" strike="noStrike">
                <a:solidFill>
                  <a:srgbClr val="000000"/>
                </a:solidFill>
                <a:latin typeface="Perpetua"/>
              </a:rPr>
              <a:t>frequently changed according to the situation at hand (e.g., user changes his settings to achieve a specific goal) </a:t>
            </a:r>
            <a:endParaRPr b="0" lang="en-US" sz="1700" spc="-1" strike="noStrike">
              <a:solidFill>
                <a:srgbClr val="000000"/>
              </a:solidFill>
              <a:latin typeface="Perpetua"/>
            </a:endParaRPr>
          </a:p>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With social sensors, there is no guarantee on the delivery of specific information about specific facts and at specific times</a:t>
            </a:r>
            <a:endParaRPr b="0" lang="en-US" sz="2000" spc="-1" strike="noStrike">
              <a:solidFill>
                <a:srgbClr val="000000"/>
              </a:solidFill>
              <a:latin typeface="Perpetua"/>
            </a:endParaRPr>
          </a:p>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ocial sensors remain out of the control loop of system managers and application developers</a:t>
            </a:r>
            <a:endParaRPr b="0" lang="en-US" sz="2000" spc="-1" strike="noStrike">
              <a:solidFill>
                <a:srgbClr val="000000"/>
              </a:solidFill>
              <a:latin typeface="Perpetua"/>
            </a:endParaRPr>
          </a:p>
          <a:p>
            <a:pPr lvl="1" marL="536400" indent="-223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But responsible reporting behaviours (Palenetal 2007), collective intelligence of crowd dispels rumours (Bird et al. 2012)</a:t>
            </a:r>
            <a:endParaRPr b="0" lang="en-US" sz="17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696464"/>
                </a:solidFill>
                <a:latin typeface="Franklin Gothic Book"/>
              </a:rPr>
              <a:t>VII. Pervasive Social Computing, a vision for the future</a:t>
            </a:r>
            <a:endParaRPr b="0" lang="en-US" sz="2500" spc="-1" strike="noStrike">
              <a:solidFill>
                <a:srgbClr val="696464"/>
              </a:solidFill>
              <a:latin typeface="Franklin Gothic Book"/>
            </a:endParaRPr>
          </a:p>
        </p:txBody>
      </p:sp>
      <p:sp>
        <p:nvSpPr>
          <p:cNvPr id="47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7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7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7BAC3C-C1E2-43F3-A22F-5D3CAAC3C0F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9" name=""/>
          <p:cNvSpPr txBox="1"/>
          <p:nvPr/>
        </p:nvSpPr>
        <p:spPr>
          <a:xfrm>
            <a:off x="914400" y="1188720"/>
            <a:ext cx="7772400" cy="4830840"/>
          </a:xfrm>
          <a:prstGeom prst="rect">
            <a:avLst/>
          </a:prstGeom>
          <a:noFill/>
          <a:ln w="0">
            <a:noFill/>
          </a:ln>
        </p:spPr>
        <p:txBody>
          <a:bodyPr anchor="t">
            <a:normAutofit fontScale="92000"/>
          </a:bodyPr>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Fusion, collaboration</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Integrate the biological, cognitive and social spheres of human activity</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Articulate models from the sensori-motor, semantical, pragmatical and social levels </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Sensor/Social data is by nature noisy, ambiguous, incomplete, inaccurate, context-specific, dynamic…</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Compensate the lack of sensors with data coming from social networks</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Integrate information from physical sensors and social sensors to resolve uncertainty</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A typical localization problem</a:t>
            </a:r>
            <a:endParaRPr b="0" lang="en-US" sz="2200" spc="-1" strike="noStrike">
              <a:solidFill>
                <a:srgbClr val="000000"/>
              </a:solidFill>
              <a:latin typeface="Perpetua"/>
            </a:endParaRPr>
          </a:p>
          <a:p>
            <a:pPr lvl="1" marL="503640" indent="-21024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Perpetua"/>
              </a:rPr>
              <a:t>where GPS fails to localize places that are indoor or don’t have a clear sky view</a:t>
            </a:r>
            <a:endParaRPr b="0" lang="en-US" sz="1900" spc="-1" strike="noStrike">
              <a:solidFill>
                <a:srgbClr val="000000"/>
              </a:solidFill>
              <a:latin typeface="Perpetua"/>
            </a:endParaRPr>
          </a:p>
          <a:p>
            <a:pPr lvl="1" marL="503640" indent="-21024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Perpetua"/>
              </a:rPr>
              <a:t>Precision could be raised mining on the social sphere, where a tweet from Twitter, a post from Facebook, etc., could place somebody in a precise context (e.g., a Facebook post saying: “Me and Marco watching a football match at Irish Pub”)</a:t>
            </a:r>
            <a:endParaRPr b="0" lang="en-US" sz="19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a:t>
            </a:r>
            <a:endParaRPr b="0" lang="en-US" sz="2800" spc="-1" strike="noStrike">
              <a:solidFill>
                <a:srgbClr val="696464"/>
              </a:solidFill>
              <a:latin typeface="Franklin Gothic Book"/>
            </a:endParaRPr>
          </a:p>
        </p:txBody>
      </p:sp>
      <p:sp>
        <p:nvSpPr>
          <p:cNvPr id="481"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82"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83"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B3C8F0-B0CF-496B-A32D-ACA0E36E95D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84" name=""/>
          <p:cNvSpPr txBox="1"/>
          <p:nvPr/>
        </p:nvSpPr>
        <p:spPr>
          <a:xfrm>
            <a:off x="914400" y="1188720"/>
            <a:ext cx="7772400" cy="4830840"/>
          </a:xfrm>
          <a:prstGeom prst="rect">
            <a:avLst/>
          </a:prstGeom>
          <a:noFill/>
          <a:ln w="0">
            <a:noFill/>
          </a:ln>
        </p:spPr>
        <p:txBody>
          <a:bodyPr anchor="t">
            <a:normAutofit fontScale="90000"/>
          </a:bodyPr>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Privacy</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New rules for respecting and preserving overall user privacy to be formulated, investigation needed to sort out privacy intricacies of future pervasive applications</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Our idea : privacy management should apply at different levels of content information, from single personal contextual information, to aggregated one, to inferred above</a:t>
            </a:r>
            <a:endParaRPr b="0" lang="en-US" sz="2200" spc="-1" strike="noStrike">
              <a:solidFill>
                <a:srgbClr val="000000"/>
              </a:solidFill>
              <a:latin typeface="Perpetua"/>
            </a:endParaRPr>
          </a:p>
          <a:p>
            <a:pPr lvl="1" marL="492480" indent="-205560">
              <a:lnSpc>
                <a:spcPct val="9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Perpetua"/>
              </a:rPr>
              <a:t>At the level of raw data, be conscious of what data the user really wants to share, in the presence of multiple and dynamic data sources</a:t>
            </a:r>
            <a:endParaRPr b="0" lang="en-US" sz="1900" spc="-1" strike="noStrike">
              <a:solidFill>
                <a:srgbClr val="000000"/>
              </a:solidFill>
              <a:latin typeface="Perpetua"/>
            </a:endParaRPr>
          </a:p>
          <a:p>
            <a:pPr lvl="1" marL="492480" indent="-205560">
              <a:lnSpc>
                <a:spcPct val="9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Perpetua"/>
              </a:rPr>
              <a:t>In addition, since the pervasive application will be able to infer and aggregate information, understand what information can be produced at the various levels of the privacy, and controlling how to share it</a:t>
            </a:r>
            <a:endParaRPr b="0" lang="en-US" sz="19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D. Schuster, et al., « Pervasive Social Context - Taxonomy and Survey » - ACM Transactions on Intelligent Systems and Technology, Vol. 9, No. 4, Article 39, 2012</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696464"/>
                </a:solidFill>
                <a:latin typeface="Franklin Gothic Book"/>
              </a:rPr>
              <a:t>VII. Pervasive Social Computing, a vision for the future</a:t>
            </a:r>
            <a:endParaRPr b="0" lang="en-US" sz="2500" spc="-1" strike="noStrike">
              <a:solidFill>
                <a:srgbClr val="696464"/>
              </a:solidFill>
              <a:latin typeface="Franklin Gothic Book"/>
            </a:endParaRPr>
          </a:p>
        </p:txBody>
      </p:sp>
      <p:sp>
        <p:nvSpPr>
          <p:cNvPr id="486"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87"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88"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C939D6-035F-450E-96AE-343D54EDB67C}"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89" name=""/>
          <p:cNvSpPr txBox="1"/>
          <p:nvPr/>
        </p:nvSpPr>
        <p:spPr>
          <a:xfrm>
            <a:off x="914400" y="1188720"/>
            <a:ext cx="7772400" cy="4830840"/>
          </a:xfrm>
          <a:prstGeom prst="rect">
            <a:avLst/>
          </a:prstGeom>
          <a:noFill/>
          <a:ln w="0">
            <a:noFill/>
          </a:ln>
        </p:spPr>
        <p:txBody>
          <a:bodyPr anchor="t">
            <a:normAutofit fontScale="94000"/>
          </a:bodyPr>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Ethics: </a:t>
            </a:r>
            <a:r>
              <a:rPr b="0" lang="fr-FR" sz="1900" spc="-1" strike="noStrike">
                <a:solidFill>
                  <a:srgbClr val="000000"/>
                </a:solidFill>
                <a:latin typeface="Perpetua"/>
              </a:rPr>
              <a:t>: resistance to data collection and analysis</a:t>
            </a:r>
            <a:endParaRPr b="0" lang="en-US" sz="19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Can there ever be a science of obfuscation?</a:t>
            </a:r>
            <a:endParaRPr b="0" lang="en-US" sz="22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Refusal is not a practical option, as data collection is an inherent condition of many essential societal transactions</a:t>
            </a:r>
            <a:endParaRPr b="0" lang="en-US" sz="22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With a variety of possible motivations, actors engage in obfuscation by producing misleading, false, or ambiguous data with the intention of confusing an adversary or simply adding to the time or cost of separating bad data from good</a:t>
            </a:r>
            <a:endParaRPr b="0" lang="en-US" sz="22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In contrast with traditional information theory (Claude Shannon’s work) that assumes a sender and receiver who are eager to communicate equally motivated to their channel of unwanted noise</a:t>
            </a:r>
            <a:endParaRPr b="0" lang="en-US" sz="22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Perpetua"/>
              </a:rPr>
              <a:t>F. Brunton et al., « Vernacular resistance to data collection and analysis », First Monday, Volume 16, Number 5 - 2 May 2011</a:t>
            </a: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136440"/>
            <a:ext cx="7772400" cy="579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96464"/>
                </a:solidFill>
                <a:latin typeface="Franklin Gothic Book"/>
              </a:rPr>
              <a:t>I. Infrastructures for data collection &amp; communication</a:t>
            </a:r>
            <a:endParaRPr b="0" lang="en-US" sz="2400" spc="-1" strike="noStrike">
              <a:solidFill>
                <a:srgbClr val="696464"/>
              </a:solidFill>
              <a:latin typeface="Franklin Gothic Book"/>
            </a:endParaRPr>
          </a:p>
        </p:txBody>
      </p:sp>
      <p:sp>
        <p:nvSpPr>
          <p:cNvPr id="288"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9"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B5309B-2958-48F4-AE2D-A54F282CDC5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1" name="Picture 5" descr=""/>
          <p:cNvPicPr/>
          <p:nvPr/>
        </p:nvPicPr>
        <p:blipFill>
          <a:blip r:embed="rId1"/>
          <a:stretch/>
        </p:blipFill>
        <p:spPr>
          <a:xfrm>
            <a:off x="-106200" y="658800"/>
            <a:ext cx="9456480" cy="552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57120" y="274320"/>
            <a:ext cx="481824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 Infrastructures for data collection &amp; communication</a:t>
            </a:r>
            <a:endParaRPr b="0" lang="en-US" sz="2800" spc="-1" strike="noStrike">
              <a:solidFill>
                <a:srgbClr val="696464"/>
              </a:solidFill>
              <a:latin typeface="Franklin Gothic Book"/>
            </a:endParaRPr>
          </a:p>
        </p:txBody>
      </p:sp>
      <p:sp>
        <p:nvSpPr>
          <p:cNvPr id="293" name=""/>
          <p:cNvSpPr txBox="1"/>
          <p:nvPr/>
        </p:nvSpPr>
        <p:spPr>
          <a:xfrm>
            <a:off x="357120" y="1892160"/>
            <a:ext cx="8291520" cy="4127760"/>
          </a:xfrm>
          <a:prstGeom prst="rect">
            <a:avLst/>
          </a:prstGeom>
          <a:noFill/>
          <a:ln w="0">
            <a:noFill/>
          </a:ln>
        </p:spPr>
        <p:txBody>
          <a:bodyPr anchor="t">
            <a:normAutofit fontScale="93000"/>
          </a:bodyPr>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ioHarness (Zephyr)</a:t>
            </a:r>
            <a:endParaRPr b="0" lang="en-US" sz="20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formations : </a:t>
            </a:r>
            <a:r>
              <a:rPr b="0" lang="fr-FR" sz="1800" spc="-1" strike="noStrike">
                <a:solidFill>
                  <a:srgbClr val="000000"/>
                </a:solidFill>
                <a:latin typeface="Perpetua"/>
              </a:rPr>
              <a:t>fréquence respiratoire, fréquence cardiaque, température cutanée , posture, activité; </a:t>
            </a:r>
            <a:r>
              <a:rPr b="0" lang="fr-FR" sz="2000" spc="-1" strike="noStrike">
                <a:solidFill>
                  <a:srgbClr val="000000"/>
                </a:solidFill>
                <a:latin typeface="Perpetua"/>
              </a:rPr>
              <a:t>ne permet pas de récupérer des signaux bruts</a:t>
            </a:r>
            <a:endParaRPr b="0" lang="en-US" sz="20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dicateurs d’alertes et d’alarmes lorsque certaines limites sont atteintes (réglables via une interface spécifique).</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Ex alerte : fréquence cardiaque mesurée trop haute.</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Ex alarme : pas de battements cardiaques détectés depuis une durée définie</a:t>
            </a:r>
            <a:endParaRPr b="0" lang="en-US" sz="18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hysiological Welfare Indicator :</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ed= Alarme – Haut risque physiologique</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Yellow= Alerte – Indication que la physiologie est sortie des limites et qu’une observation plus fine est nécessaire</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rey= Absence de détection signaux physiologiques depuis un certain temps</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reen = Normal</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lue= Dispositif non opérationnel</a:t>
            </a:r>
            <a:endParaRPr b="0" lang="en-US" sz="1800" spc="-1" strike="noStrike">
              <a:solidFill>
                <a:srgbClr val="000000"/>
              </a:solidFill>
              <a:latin typeface="Perpetua"/>
            </a:endParaRPr>
          </a:p>
        </p:txBody>
      </p:sp>
      <p:sp>
        <p:nvSpPr>
          <p:cNvPr id="294" name="Espace réservé de la date 7"/>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5" name="Espace réservé du pied de page 9"/>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6" name="Espace réservé du numéro de diapositiv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BEAABD-B767-44BB-BAC4-1339BA8FDEF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7" name="Espace réservé de la date 3"/>
          <p:cNvSpPr/>
          <p:nvPr/>
        </p:nvSpPr>
        <p:spPr>
          <a:xfrm>
            <a:off x="152280" y="6553080"/>
            <a:ext cx="1447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BC9D6B-F0EF-40DE-99A4-6DB0E8FDDF42}" type="datetime">
              <a:rPr b="0" i="1" lang="fr-FR" sz="1200" spc="-1" strike="noStrike">
                <a:solidFill>
                  <a:srgbClr val="000000"/>
                </a:solidFill>
                <a:latin typeface="Arial"/>
              </a:rPr>
              <a:t>30/07/26</a:t>
            </a:fld>
            <a:endParaRPr b="0" lang="en-US" sz="1200" spc="-1" strike="noStrike">
              <a:solidFill>
                <a:srgbClr val="000000"/>
              </a:solidFill>
              <a:latin typeface="Arial"/>
            </a:endParaRPr>
          </a:p>
        </p:txBody>
      </p:sp>
      <p:pic>
        <p:nvPicPr>
          <p:cNvPr id="298" name="Picture 6" descr=""/>
          <p:cNvPicPr/>
          <p:nvPr/>
        </p:nvPicPr>
        <p:blipFill>
          <a:blip r:embed="rId1"/>
          <a:srcRect l="-4891" t="0" r="-4891" b="0"/>
          <a:stretch/>
        </p:blipFill>
        <p:spPr>
          <a:xfrm>
            <a:off x="5175360" y="0"/>
            <a:ext cx="3968640" cy="233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88720" y="355320"/>
            <a:ext cx="2819160" cy="5289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 Infrastructures for data collection &amp; communication</a:t>
            </a:r>
            <a:br>
              <a:rPr sz="2800"/>
            </a:br>
            <a:br>
              <a:rPr sz="2800"/>
            </a:br>
            <a:r>
              <a:rPr b="0" lang="fr-FR" sz="2800" spc="-1" strike="noStrike">
                <a:solidFill>
                  <a:srgbClr val="696464"/>
                </a:solidFill>
                <a:latin typeface="Franklin Gothic Book"/>
              </a:rPr>
              <a:t>Health Smart Home of the TIMC-IMAG Laboratory</a:t>
            </a:r>
            <a:endParaRPr b="0" lang="en-US" sz="2800" spc="-1" strike="noStrike">
              <a:solidFill>
                <a:srgbClr val="696464"/>
              </a:solidFill>
              <a:latin typeface="Franklin Gothic Book"/>
            </a:endParaRPr>
          </a:p>
        </p:txBody>
      </p:sp>
      <p:sp>
        <p:nvSpPr>
          <p:cNvPr id="30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37314D-1641-45BC-85A9-7EEE4F4386C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03" name="Image 6" descr=""/>
          <p:cNvPicPr/>
          <p:nvPr/>
        </p:nvPicPr>
        <p:blipFill>
          <a:blip r:embed="rId1"/>
          <a:stretch/>
        </p:blipFill>
        <p:spPr>
          <a:xfrm>
            <a:off x="3108240" y="-36360"/>
            <a:ext cx="6035760" cy="626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 Architectures: towards dependable open software development</a:t>
            </a:r>
            <a:endParaRPr b="0" lang="en-US" sz="2800" spc="-1" strike="noStrike">
              <a:solidFill>
                <a:srgbClr val="696464"/>
              </a:solidFill>
              <a:latin typeface="Franklin Gothic Book"/>
            </a:endParaRPr>
          </a:p>
        </p:txBody>
      </p:sp>
      <p:sp>
        <p:nvSpPr>
          <p:cNvPr id="305" name=""/>
          <p:cNvSpPr txBox="1"/>
          <p:nvPr/>
        </p:nvSpPr>
        <p:spPr>
          <a:xfrm>
            <a:off x="914400" y="1188720"/>
            <a:ext cx="7772400" cy="4830840"/>
          </a:xfrm>
          <a:prstGeom prst="rect">
            <a:avLst/>
          </a:prstGeom>
          <a:noFill/>
          <a:ln w="0">
            <a:noFill/>
          </a:ln>
        </p:spPr>
        <p:txBody>
          <a:bodyPr anchor="t">
            <a:normAutofit fontScale="90000"/>
          </a:bodyPr>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al-time ambulatory monitoring requires architectures which obey principles like scalability and independence (of sensors, models and algorithms), individualization (to personal profiles), and confidence, seen not as a mere robustness to failure, but rather as a sensitivity to sensing and processing conditions.</a:t>
            </a:r>
            <a:endParaRPr b="0" lang="en-US" sz="20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 Buller et al, Systems Architecture In Real-Time Physiological and Psycho-Physiological Status Monitoring (NATO RTO Technical Report, TR-HFM-132, 2010)</a:t>
            </a:r>
            <a:endParaRPr b="0" lang="en-US" sz="20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ybrid architectures combine the modularity, scalability and interoperability of service-based architectures together with the exibility and reactivity of publish-subscribe approaches. Elementary modules are assembled into federations of auto-critical, reflexive observational processes governed by a hierarchy of supervisory controllers and meta-controllers, according to a model of the activities. </a:t>
            </a:r>
            <a:endParaRPr b="0" lang="en-US" sz="20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J. Crowley, P. Reignier, Dynamic Composition of Process Federations for Context-Aware Perception of Human Activity (KIMAS, 2003)</a:t>
            </a:r>
            <a:endParaRPr b="0" lang="en-US" sz="2000" spc="-1" strike="noStrike">
              <a:solidFill>
                <a:srgbClr val="000000"/>
              </a:solidFill>
              <a:latin typeface="Perpetua"/>
            </a:endParaRPr>
          </a:p>
        </p:txBody>
      </p:sp>
      <p:sp>
        <p:nvSpPr>
          <p:cNvPr id="30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2054D9-65C1-4034-880B-07E0F06A60A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7" descr=""/>
          <p:cNvPicPr/>
          <p:nvPr/>
        </p:nvPicPr>
        <p:blipFill>
          <a:blip r:embed="rId1"/>
          <a:stretch/>
        </p:blipFill>
        <p:spPr>
          <a:xfrm>
            <a:off x="4191120" y="4495680"/>
            <a:ext cx="4572000" cy="1130400"/>
          </a:xfrm>
          <a:prstGeom prst="rect">
            <a:avLst/>
          </a:prstGeom>
          <a:ln w="0">
            <a:noFill/>
          </a:ln>
        </p:spPr>
      </p:pic>
      <p:pic>
        <p:nvPicPr>
          <p:cNvPr id="310" name="Picture 9" descr=""/>
          <p:cNvPicPr/>
          <p:nvPr/>
        </p:nvPicPr>
        <p:blipFill>
          <a:blip r:embed="rId2"/>
          <a:stretch/>
        </p:blipFill>
        <p:spPr>
          <a:xfrm>
            <a:off x="3733920" y="1600200"/>
            <a:ext cx="5257800" cy="2374920"/>
          </a:xfrm>
          <a:prstGeom prst="rect">
            <a:avLst/>
          </a:prstGeom>
          <a:ln w="0">
            <a:noFill/>
          </a:ln>
        </p:spPr>
      </p:pic>
      <p:sp>
        <p:nvSpPr>
          <p:cNvPr id="311"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 Architectures: towards dependable open software development</a:t>
            </a:r>
            <a:endParaRPr b="0" lang="en-US" sz="2800" spc="-1" strike="noStrike">
              <a:solidFill>
                <a:srgbClr val="696464"/>
              </a:solidFill>
              <a:latin typeface="Franklin Gothic Book"/>
            </a:endParaRPr>
          </a:p>
        </p:txBody>
      </p:sp>
      <p:sp>
        <p:nvSpPr>
          <p:cNvPr id="312" name=""/>
          <p:cNvSpPr txBox="1"/>
          <p:nvPr/>
        </p:nvSpPr>
        <p:spPr>
          <a:xfrm>
            <a:off x="254160" y="785520"/>
            <a:ext cx="3479760" cy="5234040"/>
          </a:xfrm>
          <a:prstGeom prst="rect">
            <a:avLst/>
          </a:prstGeom>
          <a:noFill/>
          <a:ln w="0">
            <a:noFill/>
          </a:ln>
        </p:spPr>
        <p:txBody>
          <a:bodyPr anchor="t">
            <a:normAutofit fontScale="91000"/>
          </a:bodyPr>
          <a:p>
            <a:pPr marL="248040" indent="-24804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erformance properties</a:t>
            </a:r>
            <a:endParaRPr b="0" lang="en-US" sz="18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mbedded Real Time View Invariant Image description for lowcost mobile devices (phones, ipods, computers, etc)</a:t>
            </a:r>
            <a:endParaRPr b="0" lang="en-US" sz="16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ward robust Computer Vision using Multi-core Architectures</a:t>
            </a:r>
            <a:endParaRPr b="0" lang="en-US" sz="1600" spc="-1" strike="noStrike">
              <a:solidFill>
                <a:srgbClr val="000000"/>
              </a:solidFill>
              <a:latin typeface="Perpetua"/>
            </a:endParaRPr>
          </a:p>
          <a:p>
            <a:pPr marL="248040" indent="-24804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utonomic Properties provided by component supervisor</a:t>
            </a:r>
            <a:endParaRPr b="0" lang="en-US" sz="18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uto-regulatory: The process controller can adapt parameters to maintain a desired process state.</a:t>
            </a:r>
            <a:endParaRPr b="0" lang="en-US" sz="16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uto-descriptive: The process controller provides descriptions of the capabilities and the current state of the process.</a:t>
            </a:r>
            <a:endParaRPr b="0" lang="en-US" sz="16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uto-critical: Process estimates confidence for all properties and events.</a:t>
            </a:r>
            <a:endParaRPr b="0" lang="en-US" sz="16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Self Monitoring: Maintaining a description of process state and quality of service</a:t>
            </a:r>
            <a:endParaRPr b="0" lang="en-US" sz="1600" spc="-1" strike="noStrike">
              <a:solidFill>
                <a:srgbClr val="000000"/>
              </a:solidFill>
              <a:latin typeface="Perpetua"/>
            </a:endParaRPr>
          </a:p>
          <a:p>
            <a:pPr marL="248040" indent="-24804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Jim Crowley, ACM Queue, 2006</a:t>
            </a:r>
            <a:endParaRPr b="0" lang="en-US" sz="1800" spc="-1" strike="noStrike">
              <a:solidFill>
                <a:srgbClr val="000000"/>
              </a:solidFill>
              <a:latin typeface="Perpetua"/>
            </a:endParaRPr>
          </a:p>
        </p:txBody>
      </p:sp>
      <p:sp>
        <p:nvSpPr>
          <p:cNvPr id="313"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4" name="Espace réservé du pied de page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15"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2A3D7B-D02C-4ADD-8EA9-DDE365F1891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 Architectures: towards dependable open software development</a:t>
            </a:r>
            <a:endParaRPr b="0" lang="en-US" sz="2800" spc="-1" strike="noStrike">
              <a:solidFill>
                <a:srgbClr val="696464"/>
              </a:solidFill>
              <a:latin typeface="Franklin Gothic Book"/>
            </a:endParaRPr>
          </a:p>
        </p:txBody>
      </p:sp>
      <p:sp>
        <p:nvSpPr>
          <p:cNvPr id="317" name=""/>
          <p:cNvSpPr txBox="1"/>
          <p:nvPr/>
        </p:nvSpPr>
        <p:spPr>
          <a:xfrm>
            <a:off x="914400" y="1188720"/>
            <a:ext cx="7772400" cy="4830840"/>
          </a:xfrm>
          <a:prstGeom prst="rect">
            <a:avLst/>
          </a:prstGeom>
          <a:noFill/>
          <a:ln w="0">
            <a:noFill/>
          </a:ln>
        </p:spPr>
        <p:txBody>
          <a:bodyPr anchor="t">
            <a:normAutofit fontScale="91000"/>
          </a:bodyPr>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elf-Managed Cells (SMCs) manage a variety of services, among which the discovery service, to interrogate nearby services or resources and assign them roles, based on their capabilities, and the policy service, to specify the behaviour of SMCs and their adaptation to context changes. </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ew policies may be loaded at run-time or existing policies enabled/disabled to change the adaptation strategy of SMCs. A publish/subscribe approach allows event-based interaction between components and triggering of policies. </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 Sloman, E. Lupu, Engineering Policy-Based Ubiquitous Systems (Comput. J., 2010)</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ybrid agent-centered design is promoted, to combine powerful centralized reasoning services over heterogeneous context fragments, where mobile agents enabling agility and robustness.</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adovitz, S. Loke, A. Zaslavsky, The ECORA framework: A hybrid architecture for context-oriented pervasive computing (Pervasive and Mobile Computing, 2008)</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31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DC3C16-CD9C-4B0A-9897-980DB69D7AC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9T06:48:52Z</dcterms:created>
  <dc:creator>Garbay Catherine</dc:creator>
  <dc:description/>
  <dc:language>en-US</dc:language>
  <cp:lastModifiedBy>Garbay Catherine</cp:lastModifiedBy>
  <cp:lastPrinted>2013-06-12T14:28:04Z</cp:lastPrinted>
  <dcterms:modified xsi:type="dcterms:W3CDTF">2013-08-29T18:53:21Z</dcterms:modified>
  <cp:revision>404</cp:revision>
  <dc:subject/>
  <dc:title>L’intelligence ambiante</dc:title>
</cp:coreProperties>
</file>